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8.png" ContentType="image/png"/>
  <Override PartName="/ppt/media/image30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1728-7024-47A3-970C-0C9582EF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181A-D36A-40A5-9389-60CC7B00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CE315-A7F7-460F-8201-FEF5E4ED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F4CF5-E9FB-4D71-889D-1FFF3F60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AED67-7C7B-4670-8077-C2AB6A3E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2E6FD-EC00-47BE-8CEA-DB051A19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261F3-B35E-498D-9309-64896C8E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AC012-3370-46A4-ACB6-C88D28F7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62E5B-0D77-4041-9EE7-A504C42A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A6376-3823-45A0-9CFF-F91C50C3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F8CFB-8496-4834-B825-993FC002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F9CE9-42CB-47CE-A377-93F3C423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30C9-B4FE-48DB-888D-4022940F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79F03-A1A9-4BE8-8CED-6921B5BD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CF4A1-3DA2-421F-8262-35F7503A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52AA7-2673-4F1C-8F63-11354EEA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03761-FAA3-4288-AF43-04878E63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97B8B-1628-4BC4-8373-584DF9F2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851AE-A8CC-452E-A7D3-C40E14D5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CEE22-844D-4FC6-975C-19EEC3C1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D1975-9035-4D6D-BBED-9B9B43C4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14FB5-6BF2-481C-B22B-9A78B941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EF5E5-7587-4AB5-B3D5-0F90F366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BA52-605A-4FF3-8AA7-492BC10A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F4BEE-45A6-4751-95BB-8AF9331E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2B382-4976-43C0-81A1-EEC26E73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B5883-CABE-493E-88D1-732A1542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ACEC0-9ABE-44C1-B1E2-FA2397C9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D9909-4AFA-4ED5-9166-E7862C8D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4CAB5-D5EA-4040-99EF-AD36698B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CCA3C-D286-4F16-B531-B8DDEE04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605D2-EA0D-455E-A1BD-3CBAD2F3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95776-620F-4EAD-9F1B-F5D8AE3E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0D816-324F-433D-8560-4C726853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280A-D53E-41EF-BE7F-13A1AF00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04010-65DD-4843-96D7-58A3EE1A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98253-7960-4987-9300-1C2AA5BE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F55B1-045E-4B72-A440-51B90338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60D64-121F-4B35-AB89-A8773688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BE56E-27E7-45B3-9927-DDA36B9C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B188EC-8778-4D52-A80B-D56F3BCE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C5F26-CE28-46C2-BA08-421E523D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A56CF-F07F-4F84-881A-771A42D2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626DF-507E-483D-B53C-EBDE70D5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19B75-B80E-4EC9-A87D-831238DC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FCCB-A2CB-4B9B-9514-3A490DFD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66517-F1D9-4943-8631-EC6A6CE4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959F3-865C-4784-B2E5-77466C4F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24569-F599-492D-B3F7-E78259FA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7416E-3D37-4916-BFA2-19461EFD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0D777-D16E-41C5-8A8B-3F741A21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FD2B5B-812D-4C6C-8A0F-17A4124D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D2AA01-2BFB-476F-B250-03B397AA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8004BD-95DE-48D9-96F4-F4D67C62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43BC0-492A-4913-ADB7-80842D41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FCB9A4-70DB-4CAE-A5E5-0B17353A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464F-87CE-49D9-A1CD-E60B5181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871044-6F84-49BB-BCC1-52DD1723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4F6D03-151F-4865-BD23-C12861E7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3F698F-8F51-4AB3-BB5A-BC7CC31B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79D996-EAE2-456E-B554-FA52DE7F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6EA7C2-7A8D-417D-834F-3E21AD42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155234-528D-4CA0-9DC1-39A87FCF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485E24-B855-493D-A8C5-F192D257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84F7-CB38-45E0-8078-08F792F7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A238-870A-4BE2-B9E8-2B3D31CD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71DE-1376-40C0-9BBA-76690367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5085-F7D0-4627-9549-BA532E1E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2DCA-6E08-4299-8D87-3B8AF569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D7AC-9229-4FBE-AF94-35F595CE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243F-AEA0-4E1B-B502-F9219F67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436B-D7ED-4AC5-84FE-B385405E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E757-1F68-4F8C-8BEA-5D537D52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A083-E3D2-4865-AFF7-7FE33321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8077F-603F-4F0D-AC36-75399383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A5A7D-084C-4130-AC83-FA4CC310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7DE1D-E8F6-40B9-92D7-C8BFEE17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3A00D-8987-4C38-9E6A-F963A110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316C6-965B-4AFB-A90C-0B7F4398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84B7-EAA9-4139-BF2B-23E7781A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8282A-1FD6-44AD-A81F-02CC326A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AB18C-1C2C-4D51-A709-9653FDCA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411CE-8B95-40BE-AA96-D3B1EA4F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867C4-4AD8-4B7B-A228-F9FF044E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82666-98B7-4DDA-96D5-F5C8592E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00BD0-7761-43CD-810D-255A9C89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92856-FD84-410E-876E-16BE2FB0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2D6FC-B494-442C-A582-7D66EBAF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91FAB-1755-4A92-AE7D-215ECC55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85EDC-B41F-42DE-904F-16C4690D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19F0-3B96-4EDB-AB61-960A2F78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121C5-EE1A-4B4C-B838-3106F8F0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B81E4-FCF7-4717-8A2E-FAB86B09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1EB55-E11F-4903-B360-10307E0C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68A64-4A49-475B-9FAA-4E413F4A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B14B2-6A49-4824-BB53-A635F1D6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01882-4ECB-4DE7-9AF1-E67E5585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0A4A4-5BEE-4CE0-B13B-260C525D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D8194-41D0-4B89-B2D2-EBF09F4E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70697-6737-45C3-A565-B2C35546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2FC68-2B13-4EE5-BFCB-10AADFF2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9DA-B1CB-45F8-A7D8-84B29A5D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DBBCB-608E-49B1-A00B-21F04ABA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7CC3E-9EDC-474F-A5F2-49182FFA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940D1-B443-4D8B-87DF-B1AFECBA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065A4-CF24-48AF-B6D5-5F0B9260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DD311-2492-4C82-BBF7-54855825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3B45E-F1F9-4979-BD4D-6E0771E2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F6A53-7629-46C6-831B-25543F7C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39255-A71F-4F8B-86A4-82FF4F3C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8A52C-3957-431B-824C-2C0EB624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B03FE-08A6-4572-BEB9-896C0216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D563-3CED-4BF3-B8DA-A9D628A1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110AB-7E79-4859-93A3-D9480F78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1B767-8419-4C9F-AE6D-13AC7119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EB06C-A3F2-439F-8BA9-EB5F357B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B9588-5599-43A5-ADB7-A57DFE9B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51A65-5A7D-48AF-89BD-F6EE5B98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9E795-E19B-41ED-923C-13C5CD44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4F27A-2E53-490F-B49E-5A3114AF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BE530-F835-462A-A3ED-BB861EDD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68F16-16BD-4E15-8D0E-76AD6E48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A37C1-671F-47C5-9A16-2A35BBAC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0FBE-C087-421C-AE04-1513E924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2886D-B417-4394-BD99-A1235CA1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65442-ACEA-475F-A0A8-14F848D1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9FB2C-30DC-47BD-9B78-401279F0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C7159-D20B-428E-AFD4-4F7723DC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76E1A-378C-4834-B5BC-FED8D77A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8FF68-F99D-48EB-9186-3B9867D6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2FEE3-6BC7-4694-B1F1-A9F6EB9A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8FEFE-8044-4E08-8623-8B0F261C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EB4CD-6E60-4B36-9D2B-6B5CE962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91ADD-2F89-4ACA-BB1A-9C2715CB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6AEB-6294-4078-B406-CB63CB8B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547CB-EE8E-488E-A0A3-A587A79D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20A22-3553-4706-8C76-23C15E08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28FD2-8792-4A9A-B75D-975471F8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0A93A-60DC-43F0-9AEE-1B357FE8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BC9EF-7719-4F89-A74A-E2AD9AFE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79F51-51E4-4D3F-999E-077C6165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B202D-EBE9-4E9D-B33E-10DEC349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18DE2-0521-4460-8462-12A8FCCE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7EEFE-45C1-43EE-8374-476D27C8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3766E-65C4-4DFF-898D-EDA4AC30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2738-95C3-4E96-AF08-8B33FB38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32FC0-1F7A-4B75-BA3B-8DEA819A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35F70-2526-4BC0-8740-6F7D8423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733FD-0EDD-403F-88F9-15A5D721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B0F5A-DDD0-482D-973F-26CED8AD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2B5F4-7DB1-4F53-BB2B-3C3863A0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FC6D0-EC62-4957-835D-AD0291D3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7B5B9-414B-4964-AC9B-A83D8AB8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3EDF0-50B0-41D6-B32A-5B0148C3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4B6B8-5377-49B0-846D-DE1E48EC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9EE7E-F43A-4302-BB34-BCECDA51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A751-9563-4267-84FB-10BB4234860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2320-BDFD-4100-B6EA-D6DDE755E18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8082-1BAD-4EDE-842D-6DAAEB1C974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FF91-AD62-4F96-938A-A99E536C634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5A6A-BF1B-4AA4-A271-7CC6187FE57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A3E7-A15C-469C-AC52-211C6A2E938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E8DD-640D-4827-92FA-73578A68250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FA43-C3D5-41D6-B0C6-F80B4BDE804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05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20EC-3E3D-45FC-9D4C-A15F70DC866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7040-2FA3-44FF-81E7-67E5AD4C3FE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7980-38E2-402F-B084-6858CAC8C2A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230A-3C6A-43E1-B2B6-469E067FA9B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3709-2CC5-4096-A9D3-B2933870B66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415D-DC58-49D4-9261-EB9E0CD32FE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274A-5FAA-4586-B408-353A7BD4482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F45C-874D-43C0-9672-D7CACACA16C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CEF5-B301-40A1-892A-7486C4ADF5E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0A61-250B-4B4B-BDEA-17131D717B1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121F-BDC9-4C20-A5BF-B7BDC092B6A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129B-12F9-4FD4-ADA3-3E61B5BC02B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781D-FE7A-4CC2-AD62-218854D3C2C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998B-80E8-45E9-804A-4A1A5F426AE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BF33-7A70-45DC-AFEF-AC75517B8FA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8520-E70C-4355-BFB2-936CB79D566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4DAA-18AD-448B-A16F-C0B0DAE4A7A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C085-FCB7-4541-854B-13CC5E41055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png"/><Relationship Id="rId3" Type="http://schemas.openxmlformats.org/officeDocument/2006/relationships/image" Target="../media/image21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文本框 99"/>
          <p:cNvSpPr/>
          <p:nvPr/>
        </p:nvSpPr>
        <p:spPr>
          <a:xfrm>
            <a:off x="2268000" y="195732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农产品品牌运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00"/>
          <p:cNvSpPr/>
          <p:nvPr/>
        </p:nvSpPr>
        <p:spPr>
          <a:xfrm>
            <a:off x="1644120" y="30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组合 101"/>
          <p:cNvGrpSpPr/>
          <p:nvPr/>
        </p:nvGrpSpPr>
        <p:grpSpPr>
          <a:xfrm>
            <a:off x="749160" y="2766600"/>
            <a:ext cx="5996160" cy="195840"/>
            <a:chOff x="749160" y="2766600"/>
            <a:chExt cx="5996160" cy="195840"/>
          </a:xfrm>
        </p:grpSpPr>
        <p:sp>
          <p:nvSpPr>
            <p:cNvPr id="550" name="矩形 102"/>
            <p:cNvSpPr/>
            <p:nvPr/>
          </p:nvSpPr>
          <p:spPr>
            <a:xfrm rot="16200000">
              <a:off x="3722400" y="-145440"/>
              <a:ext cx="49320" cy="5996160"/>
            </a:xfrm>
            <a:prstGeom prst="rect">
              <a:avLst/>
            </a:pr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103"/>
            <p:cNvSpPr/>
            <p:nvPr/>
          </p:nvSpPr>
          <p:spPr>
            <a:xfrm rot="16200000">
              <a:off x="3735000" y="-192960"/>
              <a:ext cx="24480" cy="5996160"/>
            </a:xfrm>
            <a:prstGeom prst="rect">
              <a:avLst/>
            </a:pr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矩形 104"/>
            <p:cNvSpPr/>
            <p:nvPr/>
          </p:nvSpPr>
          <p:spPr>
            <a:xfrm rot="16200000">
              <a:off x="3739680" y="-223920"/>
              <a:ext cx="14760" cy="5996160"/>
            </a:xfrm>
            <a:prstGeom prst="rect">
              <a:avLst/>
            </a:pr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矩形 105"/>
            <p:cNvSpPr/>
            <p:nvPr/>
          </p:nvSpPr>
          <p:spPr>
            <a:xfrm rot="16200000">
              <a:off x="3710160" y="-72360"/>
              <a:ext cx="74160" cy="5996160"/>
            </a:xfrm>
            <a:prstGeom prst="rect">
              <a:avLst/>
            </a:pr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4" name="图片 9" descr=""/>
          <p:cNvPicPr/>
          <p:nvPr/>
        </p:nvPicPr>
        <p:blipFill>
          <a:blip r:embed="rId2"/>
          <a:stretch/>
        </p:blipFill>
        <p:spPr>
          <a:xfrm>
            <a:off x="3146400" y="3110040"/>
            <a:ext cx="257184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9"/>
          <p:cNvSpPr/>
          <p:nvPr/>
        </p:nvSpPr>
        <p:spPr>
          <a:xfrm>
            <a:off x="2228040" y="76320"/>
            <a:ext cx="21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知拓宽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品牌定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组合 31"/>
          <p:cNvGrpSpPr/>
          <p:nvPr/>
        </p:nvGrpSpPr>
        <p:grpSpPr>
          <a:xfrm>
            <a:off x="504360" y="1411200"/>
            <a:ext cx="4429080" cy="4622400"/>
            <a:chOff x="504360" y="1411200"/>
            <a:chExt cx="4429080" cy="4622400"/>
          </a:xfrm>
        </p:grpSpPr>
        <p:sp>
          <p:nvSpPr>
            <p:cNvPr id="628" name="任意多边形 29"/>
            <p:cNvSpPr/>
            <p:nvPr/>
          </p:nvSpPr>
          <p:spPr>
            <a:xfrm flipH="1" flipV="1">
              <a:off x="1591200" y="3770640"/>
              <a:ext cx="2298600" cy="2262600"/>
            </a:xfrm>
            <a:custGeom>
              <a:avLst/>
              <a:gdLst/>
              <a:ahLst/>
              <a:rect l="l" t="t" r="r" b="b"/>
              <a:pathLst>
                <a:path w="2969116" h="2922369">
                  <a:moveTo>
                    <a:pt x="1299463" y="2197576"/>
                  </a:moveTo>
                  <a:lnTo>
                    <a:pt x="1332628" y="2207871"/>
                  </a:lnTo>
                  <a:lnTo>
                    <a:pt x="1315965" y="2224739"/>
                  </a:lnTo>
                  <a:lnTo>
                    <a:pt x="1299463" y="2197576"/>
                  </a:lnTo>
                  <a:close/>
                  <a:moveTo>
                    <a:pt x="0" y="1484558"/>
                  </a:moveTo>
                  <a:cubicBezTo>
                    <a:pt x="0" y="664659"/>
                    <a:pt x="664659" y="0"/>
                    <a:pt x="1484558" y="0"/>
                  </a:cubicBezTo>
                  <a:cubicBezTo>
                    <a:pt x="2304457" y="0"/>
                    <a:pt x="2969116" y="664659"/>
                    <a:pt x="2969116" y="1484558"/>
                  </a:cubicBezTo>
                  <a:cubicBezTo>
                    <a:pt x="2969116" y="1946953"/>
                    <a:pt x="2757717" y="2359972"/>
                    <a:pt x="2426295" y="2632241"/>
                  </a:cubicBezTo>
                  <a:lnTo>
                    <a:pt x="2291178" y="2729920"/>
                  </a:lnTo>
                  <a:lnTo>
                    <a:pt x="2483627" y="2922369"/>
                  </a:lnTo>
                  <a:lnTo>
                    <a:pt x="1563589" y="2922369"/>
                  </a:lnTo>
                  <a:lnTo>
                    <a:pt x="1563589" y="2002331"/>
                  </a:lnTo>
                  <a:lnTo>
                    <a:pt x="1737709" y="2176450"/>
                  </a:lnTo>
                  <a:lnTo>
                    <a:pt x="1772305" y="2165711"/>
                  </a:lnTo>
                  <a:cubicBezTo>
                    <a:pt x="2037632" y="2053487"/>
                    <a:pt x="2223804" y="1790764"/>
                    <a:pt x="2223804" y="1484558"/>
                  </a:cubicBezTo>
                  <a:cubicBezTo>
                    <a:pt x="2223804" y="1076284"/>
                    <a:pt x="1892832" y="745312"/>
                    <a:pt x="1484558" y="745312"/>
                  </a:cubicBezTo>
                  <a:cubicBezTo>
                    <a:pt x="1076284" y="745312"/>
                    <a:pt x="745312" y="1076284"/>
                    <a:pt x="745312" y="1484558"/>
                  </a:cubicBezTo>
                  <a:cubicBezTo>
                    <a:pt x="745312" y="1535593"/>
                    <a:pt x="750483" y="1585419"/>
                    <a:pt x="760331" y="1633542"/>
                  </a:cubicBezTo>
                  <a:lnTo>
                    <a:pt x="776482" y="1685572"/>
                  </a:lnTo>
                  <a:lnTo>
                    <a:pt x="740539" y="1663736"/>
                  </a:lnTo>
                  <a:cubicBezTo>
                    <a:pt x="530187" y="1549466"/>
                    <a:pt x="289129" y="1484558"/>
                    <a:pt x="32911" y="1484558"/>
                  </a:cubicBezTo>
                  <a:lnTo>
                    <a:pt x="83" y="1486216"/>
                  </a:lnTo>
                  <a:lnTo>
                    <a:pt x="0" y="1484558"/>
                  </a:lnTo>
                  <a:close/>
                </a:path>
              </a:pathLst>
            </a:cu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任意多边形 27"/>
            <p:cNvSpPr/>
            <p:nvPr/>
          </p:nvSpPr>
          <p:spPr>
            <a:xfrm>
              <a:off x="1578240" y="1411200"/>
              <a:ext cx="2298600" cy="2252880"/>
            </a:xfrm>
            <a:custGeom>
              <a:avLst/>
              <a:gdLst/>
              <a:ahLst/>
              <a:rect l="l" t="t" r="r" b="b"/>
              <a:pathLst>
                <a:path w="2969116" h="2910073">
                  <a:moveTo>
                    <a:pt x="1332628" y="2207871"/>
                  </a:moveTo>
                  <a:lnTo>
                    <a:pt x="1315965" y="2224739"/>
                  </a:lnTo>
                  <a:lnTo>
                    <a:pt x="1299463" y="2197576"/>
                  </a:lnTo>
                  <a:lnTo>
                    <a:pt x="1332628" y="2207871"/>
                  </a:lnTo>
                  <a:close/>
                  <a:moveTo>
                    <a:pt x="2969116" y="1484558"/>
                  </a:moveTo>
                  <a:cubicBezTo>
                    <a:pt x="2969116" y="2013009"/>
                    <a:pt x="2693003" y="2476970"/>
                    <a:pt x="2277174" y="2740043"/>
                  </a:cubicBezTo>
                  <a:lnTo>
                    <a:pt x="2271609" y="2743220"/>
                  </a:lnTo>
                  <a:lnTo>
                    <a:pt x="2438462" y="2910073"/>
                  </a:lnTo>
                  <a:lnTo>
                    <a:pt x="1518424" y="2910073"/>
                  </a:lnTo>
                  <a:lnTo>
                    <a:pt x="1518424" y="1990035"/>
                  </a:lnTo>
                  <a:lnTo>
                    <a:pt x="1712626" y="2184237"/>
                  </a:lnTo>
                  <a:lnTo>
                    <a:pt x="1772305" y="2165711"/>
                  </a:lnTo>
                  <a:cubicBezTo>
                    <a:pt x="2037632" y="2053487"/>
                    <a:pt x="2223804" y="1790764"/>
                    <a:pt x="2223804" y="1484558"/>
                  </a:cubicBezTo>
                  <a:cubicBezTo>
                    <a:pt x="2223804" y="1076284"/>
                    <a:pt x="1892832" y="745312"/>
                    <a:pt x="1484558" y="745312"/>
                  </a:cubicBezTo>
                  <a:cubicBezTo>
                    <a:pt x="1076284" y="745312"/>
                    <a:pt x="745312" y="1076284"/>
                    <a:pt x="745312" y="1484558"/>
                  </a:cubicBezTo>
                  <a:cubicBezTo>
                    <a:pt x="745312" y="1535593"/>
                    <a:pt x="750483" y="1585419"/>
                    <a:pt x="760331" y="1633542"/>
                  </a:cubicBezTo>
                  <a:lnTo>
                    <a:pt x="776482" y="1685572"/>
                  </a:lnTo>
                  <a:lnTo>
                    <a:pt x="740539" y="1663736"/>
                  </a:lnTo>
                  <a:cubicBezTo>
                    <a:pt x="530187" y="1549466"/>
                    <a:pt x="289129" y="1484558"/>
                    <a:pt x="32911" y="1484558"/>
                  </a:cubicBezTo>
                  <a:lnTo>
                    <a:pt x="83" y="1486216"/>
                  </a:lnTo>
                  <a:lnTo>
                    <a:pt x="0" y="1484558"/>
                  </a:lnTo>
                  <a:cubicBezTo>
                    <a:pt x="0" y="664659"/>
                    <a:pt x="664659" y="0"/>
                    <a:pt x="1484558" y="0"/>
                  </a:cubicBezTo>
                  <a:cubicBezTo>
                    <a:pt x="2304457" y="0"/>
                    <a:pt x="2969116" y="664659"/>
                    <a:pt x="2969116" y="1484558"/>
                  </a:cubicBezTo>
                  <a:close/>
                </a:path>
              </a:pathLst>
            </a:cu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任意多边形 28"/>
            <p:cNvSpPr/>
            <p:nvPr/>
          </p:nvSpPr>
          <p:spPr>
            <a:xfrm flipH="1" rot="10800000">
              <a:off x="2763360" y="2615040"/>
              <a:ext cx="2170080" cy="2295720"/>
            </a:xfrm>
            <a:custGeom>
              <a:avLst/>
              <a:gdLst/>
              <a:ahLst/>
              <a:rect l="l" t="t" r="r" b="b"/>
              <a:pathLst>
                <a:path w="2803108" h="2965187">
                  <a:moveTo>
                    <a:pt x="621042" y="1721756"/>
                  </a:moveTo>
                  <a:lnTo>
                    <a:pt x="608331" y="1689440"/>
                  </a:lnTo>
                  <a:lnTo>
                    <a:pt x="592737" y="1707301"/>
                  </a:lnTo>
                  <a:lnTo>
                    <a:pt x="621042" y="1721756"/>
                  </a:lnTo>
                  <a:close/>
                  <a:moveTo>
                    <a:pt x="2802546" y="1527174"/>
                  </a:moveTo>
                  <a:cubicBezTo>
                    <a:pt x="2803923" y="1477030"/>
                    <a:pt x="2802781" y="1426339"/>
                    <a:pt x="2799005" y="1375234"/>
                  </a:cubicBezTo>
                  <a:cubicBezTo>
                    <a:pt x="2738590" y="557564"/>
                    <a:pt x="2026762" y="-56312"/>
                    <a:pt x="1209092" y="4103"/>
                  </a:cubicBezTo>
                  <a:cubicBezTo>
                    <a:pt x="747954" y="38175"/>
                    <a:pt x="351635" y="279433"/>
                    <a:pt x="104528" y="630017"/>
                  </a:cubicBezTo>
                  <a:lnTo>
                    <a:pt x="95946" y="643946"/>
                  </a:lnTo>
                  <a:lnTo>
                    <a:pt x="3849" y="551849"/>
                  </a:lnTo>
                  <a:lnTo>
                    <a:pt x="3849" y="795393"/>
                  </a:lnTo>
                  <a:lnTo>
                    <a:pt x="0" y="803463"/>
                  </a:lnTo>
                  <a:lnTo>
                    <a:pt x="3849" y="806823"/>
                  </a:lnTo>
                  <a:lnTo>
                    <a:pt x="3849" y="1471887"/>
                  </a:lnTo>
                  <a:lnTo>
                    <a:pt x="923887" y="1471887"/>
                  </a:lnTo>
                  <a:lnTo>
                    <a:pt x="642279" y="1190279"/>
                  </a:lnTo>
                  <a:lnTo>
                    <a:pt x="659733" y="1148928"/>
                  </a:lnTo>
                  <a:cubicBezTo>
                    <a:pt x="773311" y="926572"/>
                    <a:pt x="996809" y="767132"/>
                    <a:pt x="1264011" y="747389"/>
                  </a:cubicBezTo>
                  <a:cubicBezTo>
                    <a:pt x="1671175" y="717305"/>
                    <a:pt x="2025635" y="1022989"/>
                    <a:pt x="2055719" y="1430153"/>
                  </a:cubicBezTo>
                  <a:cubicBezTo>
                    <a:pt x="2085803" y="1837317"/>
                    <a:pt x="1780119" y="2191778"/>
                    <a:pt x="1372955" y="2221862"/>
                  </a:cubicBezTo>
                  <a:cubicBezTo>
                    <a:pt x="1322059" y="2225622"/>
                    <a:pt x="1271987" y="2224137"/>
                    <a:pt x="1223269" y="2217861"/>
                  </a:cubicBezTo>
                  <a:lnTo>
                    <a:pt x="1170191" y="2205588"/>
                  </a:lnTo>
                  <a:lnTo>
                    <a:pt x="1194616" y="2239825"/>
                  </a:lnTo>
                  <a:cubicBezTo>
                    <a:pt x="1324075" y="2441185"/>
                    <a:pt x="1406569" y="2676804"/>
                    <a:pt x="1425449" y="2932326"/>
                  </a:cubicBezTo>
                  <a:lnTo>
                    <a:pt x="1426214" y="2965187"/>
                  </a:lnTo>
                  <a:lnTo>
                    <a:pt x="1427874" y="2965147"/>
                  </a:lnTo>
                  <a:cubicBezTo>
                    <a:pt x="2194439" y="2908509"/>
                    <a:pt x="2781890" y="2279338"/>
                    <a:pt x="2802546" y="1527174"/>
                  </a:cubicBezTo>
                  <a:close/>
                </a:path>
              </a:pathLst>
            </a:cu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任意多边形 30"/>
            <p:cNvSpPr/>
            <p:nvPr/>
          </p:nvSpPr>
          <p:spPr>
            <a:xfrm flipV="1" rot="10800000">
              <a:off x="504360" y="2564280"/>
              <a:ext cx="2167920" cy="2296800"/>
            </a:xfrm>
            <a:custGeom>
              <a:avLst/>
              <a:gdLst/>
              <a:ahLst/>
              <a:rect l="l" t="t" r="r" b="b"/>
              <a:pathLst>
                <a:path w="2800257" h="2966877">
                  <a:moveTo>
                    <a:pt x="585976" y="1694015"/>
                  </a:moveTo>
                  <a:lnTo>
                    <a:pt x="614014" y="1708984"/>
                  </a:lnTo>
                  <a:lnTo>
                    <a:pt x="601894" y="1676442"/>
                  </a:lnTo>
                  <a:lnTo>
                    <a:pt x="585976" y="1694015"/>
                  </a:lnTo>
                  <a:close/>
                  <a:moveTo>
                    <a:pt x="0" y="517489"/>
                  </a:moveTo>
                  <a:lnTo>
                    <a:pt x="0" y="1437527"/>
                  </a:lnTo>
                  <a:lnTo>
                    <a:pt x="920038" y="1437527"/>
                  </a:lnTo>
                  <a:lnTo>
                    <a:pt x="649713" y="1167202"/>
                  </a:lnTo>
                  <a:lnTo>
                    <a:pt x="663134" y="1136956"/>
                  </a:lnTo>
                  <a:cubicBezTo>
                    <a:pt x="780745" y="916705"/>
                    <a:pt x="1007110" y="761364"/>
                    <a:pt x="1274627" y="746492"/>
                  </a:cubicBezTo>
                  <a:cubicBezTo>
                    <a:pt x="1682272" y="723831"/>
                    <a:pt x="2031104" y="1035922"/>
                    <a:pt x="2053765" y="1443567"/>
                  </a:cubicBezTo>
                  <a:cubicBezTo>
                    <a:pt x="2076426" y="1851212"/>
                    <a:pt x="1764335" y="2200044"/>
                    <a:pt x="1356690" y="2222705"/>
                  </a:cubicBezTo>
                  <a:cubicBezTo>
                    <a:pt x="1305734" y="2225537"/>
                    <a:pt x="1255698" y="2223140"/>
                    <a:pt x="1207102" y="2215978"/>
                  </a:cubicBezTo>
                  <a:lnTo>
                    <a:pt x="1154256" y="2202740"/>
                  </a:lnTo>
                  <a:lnTo>
                    <a:pt x="1178053" y="2237416"/>
                  </a:lnTo>
                  <a:cubicBezTo>
                    <a:pt x="1303823" y="2441101"/>
                    <a:pt x="1382011" y="2678185"/>
                    <a:pt x="1396232" y="2934008"/>
                  </a:cubicBezTo>
                  <a:lnTo>
                    <a:pt x="1396399" y="2966877"/>
                  </a:lnTo>
                  <a:lnTo>
                    <a:pt x="1398059" y="2966868"/>
                  </a:lnTo>
                  <a:cubicBezTo>
                    <a:pt x="2216694" y="2921360"/>
                    <a:pt x="2843436" y="2220834"/>
                    <a:pt x="2797928" y="1402199"/>
                  </a:cubicBezTo>
                  <a:cubicBezTo>
                    <a:pt x="2752420" y="583564"/>
                    <a:pt x="2051894" y="-43179"/>
                    <a:pt x="1233259" y="2329"/>
                  </a:cubicBezTo>
                  <a:cubicBezTo>
                    <a:pt x="771577" y="27994"/>
                    <a:pt x="370928" y="261992"/>
                    <a:pt x="117475" y="608016"/>
                  </a:cubicBezTo>
                  <a:lnTo>
                    <a:pt x="106943" y="624432"/>
                  </a:lnTo>
                  <a:lnTo>
                    <a:pt x="0" y="517489"/>
                  </a:lnTo>
                  <a:close/>
                </a:path>
              </a:pathLst>
            </a:cu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文本框 38"/>
          <p:cNvSpPr/>
          <p:nvPr/>
        </p:nvSpPr>
        <p:spPr>
          <a:xfrm>
            <a:off x="2388960" y="21700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39"/>
          <p:cNvSpPr/>
          <p:nvPr/>
        </p:nvSpPr>
        <p:spPr>
          <a:xfrm>
            <a:off x="3538440" y="34210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文本框 40"/>
          <p:cNvSpPr/>
          <p:nvPr/>
        </p:nvSpPr>
        <p:spPr>
          <a:xfrm>
            <a:off x="2376360" y="46162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文本框 41"/>
          <p:cNvSpPr/>
          <p:nvPr/>
        </p:nvSpPr>
        <p:spPr>
          <a:xfrm>
            <a:off x="1247760" y="33670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椭圆 42"/>
          <p:cNvSpPr/>
          <p:nvPr/>
        </p:nvSpPr>
        <p:spPr>
          <a:xfrm>
            <a:off x="6350040" y="1722600"/>
            <a:ext cx="447480" cy="44748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椭圆 43"/>
          <p:cNvSpPr/>
          <p:nvPr/>
        </p:nvSpPr>
        <p:spPr>
          <a:xfrm>
            <a:off x="6350040" y="2919240"/>
            <a:ext cx="447480" cy="447840"/>
          </a:xfrm>
          <a:prstGeom prst="ellipse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椭圆 44"/>
          <p:cNvSpPr/>
          <p:nvPr/>
        </p:nvSpPr>
        <p:spPr>
          <a:xfrm>
            <a:off x="6350040" y="4116240"/>
            <a:ext cx="447480" cy="44784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椭圆 45"/>
          <p:cNvSpPr/>
          <p:nvPr/>
        </p:nvSpPr>
        <p:spPr>
          <a:xfrm>
            <a:off x="6350040" y="5313240"/>
            <a:ext cx="447480" cy="447840"/>
          </a:xfrm>
          <a:prstGeom prst="ellipse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47"/>
          <p:cNvSpPr/>
          <p:nvPr/>
        </p:nvSpPr>
        <p:spPr>
          <a:xfrm>
            <a:off x="7414560" y="1378080"/>
            <a:ext cx="113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b193"/>
                </a:solidFill>
                <a:latin typeface="微软雅黑"/>
                <a:ea typeface="微软雅黑"/>
              </a:rPr>
              <a:t>产品尖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FAB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法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48"/>
          <p:cNvSpPr/>
          <p:nvPr/>
        </p:nvSpPr>
        <p:spPr>
          <a:xfrm>
            <a:off x="7594200" y="2575080"/>
            <a:ext cx="10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67280"/>
                </a:solidFill>
                <a:latin typeface="微软雅黑"/>
                <a:ea typeface="微软雅黑"/>
              </a:rPr>
              <a:t>爆品核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大于一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49"/>
          <p:cNvSpPr/>
          <p:nvPr/>
        </p:nvSpPr>
        <p:spPr>
          <a:xfrm>
            <a:off x="7467120" y="3772080"/>
            <a:ext cx="10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6c84"/>
                </a:solidFill>
                <a:latin typeface="微软雅黑"/>
                <a:ea typeface="微软雅黑"/>
              </a:rPr>
              <a:t>沉锚效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先入为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50"/>
          <p:cNvSpPr/>
          <p:nvPr/>
        </p:nvSpPr>
        <p:spPr>
          <a:xfrm>
            <a:off x="7570080" y="4983120"/>
            <a:ext cx="196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5b7b"/>
                </a:solidFill>
                <a:latin typeface="微软雅黑"/>
                <a:ea typeface="微软雅黑"/>
              </a:rPr>
              <a:t>案例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西贝筱面村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凡客陈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图片 2" descr="探百村-logo-标志图形-组合1"/>
          <p:cNvPicPr/>
          <p:nvPr/>
        </p:nvPicPr>
        <p:blipFill>
          <a:blip r:embed="rId2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22"/>
          <p:cNvSpPr/>
          <p:nvPr/>
        </p:nvSpPr>
        <p:spPr>
          <a:xfrm>
            <a:off x="349200" y="2309760"/>
            <a:ext cx="30448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F</a:t>
            </a:r>
            <a:r>
              <a:rPr b="1" lang="en-US" sz="3200" spc="-1" strike="noStrike">
                <a:solidFill>
                  <a:srgbClr val="f8b193"/>
                </a:solidFill>
                <a:latin typeface="微软雅黑"/>
                <a:ea typeface="微软雅黑"/>
              </a:rPr>
              <a:t>eature</a:t>
            </a:r>
            <a:r>
              <a:rPr b="1" lang="zh-CN" sz="3200" spc="-1" strike="noStrike">
                <a:solidFill>
                  <a:srgbClr val="f8b193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8b193"/>
                </a:solidFill>
                <a:latin typeface="微软雅黑"/>
                <a:ea typeface="微软雅黑"/>
              </a:rPr>
              <a:t>特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产品品质，一种产品能看得到、摸得着的东西，这也是一个产品最容易让客户相信的一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23"/>
          <p:cNvSpPr/>
          <p:nvPr/>
        </p:nvSpPr>
        <p:spPr>
          <a:xfrm>
            <a:off x="8016840" y="2309760"/>
            <a:ext cx="357516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r>
              <a:rPr b="1" lang="en-US" sz="3200" spc="-1" strike="noStrike">
                <a:solidFill>
                  <a:srgbClr val="f67280"/>
                </a:solidFill>
                <a:latin typeface="微软雅黑"/>
                <a:ea typeface="微软雅黑"/>
              </a:rPr>
              <a:t>enefit</a:t>
            </a:r>
            <a:r>
              <a:rPr b="1" lang="zh-CN" sz="3200" spc="-1" strike="noStrike">
                <a:solidFill>
                  <a:srgbClr val="f6728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67280"/>
                </a:solidFill>
                <a:latin typeface="微软雅黑"/>
                <a:ea typeface="微软雅黑"/>
              </a:rPr>
              <a:t>好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种作用或者优势会给客户带来的利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文本框 24"/>
          <p:cNvSpPr/>
          <p:nvPr/>
        </p:nvSpPr>
        <p:spPr>
          <a:xfrm>
            <a:off x="4019400" y="2309760"/>
            <a:ext cx="368784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r>
              <a:rPr b="1" lang="en-US" sz="3200" spc="-1" strike="noStrike">
                <a:solidFill>
                  <a:srgbClr val="c06c84"/>
                </a:solidFill>
                <a:latin typeface="微软雅黑"/>
                <a:ea typeface="微软雅黑"/>
              </a:rPr>
              <a:t>dvantage</a:t>
            </a:r>
            <a:r>
              <a:rPr b="1" lang="zh-CN" sz="3200" spc="-1" strike="noStrike">
                <a:solidFill>
                  <a:srgbClr val="c06c84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c06c84"/>
                </a:solidFill>
                <a:latin typeface="微软雅黑"/>
                <a:ea typeface="微软雅黑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种属性将会给客户带来的作用或优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文本框 24"/>
          <p:cNvSpPr/>
          <p:nvPr/>
        </p:nvSpPr>
        <p:spPr>
          <a:xfrm>
            <a:off x="2131200" y="5230800"/>
            <a:ext cx="166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案例：杨梅   特性：大、饱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            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作用：甜、汁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            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好处：开胃健脾、生津止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084400" y="7632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知拓宽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FAB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法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2" descr="探百村-logo-标志图形-组合1"/>
          <p:cNvPicPr/>
          <p:nvPr/>
        </p:nvPicPr>
        <p:blipFill>
          <a:blip r:embed="rId2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矩形 9"/>
          <p:cNvSpPr/>
          <p:nvPr/>
        </p:nvSpPr>
        <p:spPr>
          <a:xfrm>
            <a:off x="2836080" y="763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知拓宽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大于一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1"/>
          <p:cNvSpPr/>
          <p:nvPr/>
        </p:nvSpPr>
        <p:spPr>
          <a:xfrm>
            <a:off x="1931040" y="27748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定位核心：认知大于事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文本框 11"/>
          <p:cNvSpPr/>
          <p:nvPr/>
        </p:nvSpPr>
        <p:spPr>
          <a:xfrm>
            <a:off x="8907480" y="277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核心：体验大于一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右箭头 4"/>
          <p:cNvSpPr/>
          <p:nvPr/>
        </p:nvSpPr>
        <p:spPr>
          <a:xfrm>
            <a:off x="1414440" y="3144960"/>
            <a:ext cx="9299520" cy="8222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5"/>
          <p:cNvSpPr/>
          <p:nvPr/>
        </p:nvSpPr>
        <p:spPr>
          <a:xfrm>
            <a:off x="5006880" y="3371760"/>
            <a:ext cx="15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&lt;</a:t>
            </a:r>
            <a:r>
              <a:rPr b="1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占据</a:t>
            </a:r>
            <a:r>
              <a:rPr b="1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&gt;</a:t>
            </a:r>
            <a:r>
              <a:rPr b="1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用户心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6"/>
          <p:cNvSpPr/>
          <p:nvPr/>
        </p:nvSpPr>
        <p:spPr>
          <a:xfrm>
            <a:off x="2070000" y="4137120"/>
            <a:ext cx="798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知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&gt;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事实，从顾客认知出发，而非企业现实出发，建立认知优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矩形 9"/>
          <p:cNvSpPr/>
          <p:nvPr/>
        </p:nvSpPr>
        <p:spPr>
          <a:xfrm>
            <a:off x="2228040" y="76320"/>
            <a:ext cx="21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知拓宽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沉锚效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2"/>
          <p:cNvSpPr/>
          <p:nvPr/>
        </p:nvSpPr>
        <p:spPr>
          <a:xfrm>
            <a:off x="2157480" y="1289160"/>
            <a:ext cx="7877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沉锚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先入为主，第一印象、第一信息支配，沉入海底的锚把人们思想固定在某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5128920" y="4017960"/>
            <a:ext cx="36720" cy="1500120"/>
            <a:chOff x="5128920" y="4017960"/>
            <a:chExt cx="36720" cy="1500120"/>
          </a:xfrm>
        </p:grpSpPr>
        <p:sp>
          <p:nvSpPr>
            <p:cNvPr id="673" name="Line 6"/>
            <p:cNvSpPr/>
            <p:nvPr/>
          </p:nvSpPr>
          <p:spPr>
            <a:xfrm flipH="1">
              <a:off x="5128920" y="4017960"/>
              <a:ext cx="36360" cy="15001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 txBox="1"/>
            <p:nvPr/>
          </p:nvSpPr>
          <p:spPr>
            <a:xfrm>
              <a:off x="5129280" y="4017960"/>
              <a:ext cx="36360" cy="150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7232760" y="3927600"/>
            <a:ext cx="360" cy="1590480"/>
            <a:chOff x="7232760" y="3927600"/>
            <a:chExt cx="360" cy="1590480"/>
          </a:xfrm>
        </p:grpSpPr>
        <p:sp>
          <p:nvSpPr>
            <p:cNvPr id="676" name="Line 7"/>
            <p:cNvSpPr/>
            <p:nvPr/>
          </p:nvSpPr>
          <p:spPr>
            <a:xfrm>
              <a:off x="7232760" y="3927600"/>
              <a:ext cx="0" cy="159048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 txBox="1"/>
            <p:nvPr/>
          </p:nvSpPr>
          <p:spPr>
            <a:xfrm>
              <a:off x="7232760" y="3927600"/>
              <a:ext cx="360" cy="1590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Freeform 9"/>
          <p:cNvSpPr/>
          <p:nvPr/>
        </p:nvSpPr>
        <p:spPr>
          <a:xfrm>
            <a:off x="3130560" y="2398680"/>
            <a:ext cx="6767640" cy="1622520"/>
          </a:xfrm>
          <a:custGeom>
            <a:avLst/>
            <a:gdLst/>
            <a:ahLst/>
            <a:rect l="l" t="t" r="r" b="b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3"/>
          <p:cNvSpPr/>
          <p:nvPr/>
        </p:nvSpPr>
        <p:spPr>
          <a:xfrm>
            <a:off x="3783600" y="4390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用户痛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26"/>
          <p:cNvSpPr/>
          <p:nvPr/>
        </p:nvSpPr>
        <p:spPr>
          <a:xfrm>
            <a:off x="5731200" y="4390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产品尖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27"/>
          <p:cNvSpPr/>
          <p:nvPr/>
        </p:nvSpPr>
        <p:spPr>
          <a:xfrm>
            <a:off x="8077680" y="4390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营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8"/>
          <p:cNvSpPr/>
          <p:nvPr/>
        </p:nvSpPr>
        <p:spPr>
          <a:xfrm>
            <a:off x="4611960" y="5702400"/>
            <a:ext cx="29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用户为中心进行驱动  可感知的用户体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小米跑分     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OPPO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感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图片 1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矩形 9"/>
          <p:cNvSpPr/>
          <p:nvPr/>
        </p:nvSpPr>
        <p:spPr>
          <a:xfrm>
            <a:off x="2228040" y="76320"/>
            <a:ext cx="21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知拓宽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法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16"/>
          <p:cNvSpPr/>
          <p:nvPr/>
        </p:nvSpPr>
        <p:spPr>
          <a:xfrm>
            <a:off x="825480" y="1922400"/>
            <a:ext cx="1041480" cy="1027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宋体"/>
                <a:ea typeface="Arial Unicode MS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17"/>
          <p:cNvSpPr/>
          <p:nvPr/>
        </p:nvSpPr>
        <p:spPr>
          <a:xfrm>
            <a:off x="1440" y="2949480"/>
            <a:ext cx="1403640" cy="1954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同心圆 18"/>
          <p:cNvSpPr/>
          <p:nvPr/>
        </p:nvSpPr>
        <p:spPr>
          <a:xfrm>
            <a:off x="628560" y="1741320"/>
            <a:ext cx="1424160" cy="1403640"/>
          </a:xfrm>
          <a:custGeom>
            <a:avLst/>
            <a:gdLst/>
            <a:ahLst/>
            <a:rect l="l" t="t" r="r" b="b"/>
            <a:pathLst>
              <a:path w="1423987" h="1403350">
                <a:moveTo>
                  <a:pt x="0" y="701675"/>
                </a:moveTo>
                <a:cubicBezTo>
                  <a:pt x="0" y="314151"/>
                  <a:pt x="318770" y="0"/>
                  <a:pt x="711993" y="0"/>
                </a:cubicBezTo>
                <a:cubicBezTo>
                  <a:pt x="1105216" y="0"/>
                  <a:pt x="1423986" y="314151"/>
                  <a:pt x="1423986" y="701675"/>
                </a:cubicBezTo>
                <a:cubicBezTo>
                  <a:pt x="1423986" y="1089199"/>
                  <a:pt x="1105216" y="1403350"/>
                  <a:pt x="711993" y="1403350"/>
                </a:cubicBezTo>
                <a:cubicBezTo>
                  <a:pt x="318770" y="1403350"/>
                  <a:pt x="0" y="1089199"/>
                  <a:pt x="0" y="701675"/>
                </a:cubicBezTo>
                <a:close/>
                <a:moveTo>
                  <a:pt x="194335" y="701675"/>
                </a:moveTo>
                <a:cubicBezTo>
                  <a:pt x="194335" y="981871"/>
                  <a:pt x="426098" y="1209014"/>
                  <a:pt x="711992" y="1209014"/>
                </a:cubicBezTo>
                <a:cubicBezTo>
                  <a:pt x="997886" y="1209014"/>
                  <a:pt x="1229649" y="981871"/>
                  <a:pt x="1229649" y="701675"/>
                </a:cubicBezTo>
                <a:cubicBezTo>
                  <a:pt x="1229649" y="421479"/>
                  <a:pt x="997886" y="194336"/>
                  <a:pt x="711992" y="194336"/>
                </a:cubicBezTo>
                <a:cubicBezTo>
                  <a:pt x="426098" y="194336"/>
                  <a:pt x="194335" y="421479"/>
                  <a:pt x="194335" y="701675"/>
                </a:cubicBezTo>
                <a:close/>
              </a:path>
            </a:pathLst>
          </a:cu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26"/>
          <p:cNvSpPr/>
          <p:nvPr/>
        </p:nvSpPr>
        <p:spPr>
          <a:xfrm>
            <a:off x="2133720" y="1920960"/>
            <a:ext cx="30877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要有触网的思维和动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不怕错，要快速试错，反复试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21"/>
          <p:cNvSpPr/>
          <p:nvPr/>
        </p:nvSpPr>
        <p:spPr>
          <a:xfrm>
            <a:off x="1440" y="3475080"/>
            <a:ext cx="5948640" cy="179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组 4" descr=""/>
          <p:cNvPicPr/>
          <p:nvPr/>
        </p:nvPicPr>
        <p:blipFill>
          <a:blip r:embed="rId1"/>
          <a:stretch/>
        </p:blipFill>
        <p:spPr>
          <a:xfrm>
            <a:off x="5060880" y="2260440"/>
            <a:ext cx="1424160" cy="1405080"/>
          </a:xfrm>
          <a:prstGeom prst="rect">
            <a:avLst/>
          </a:prstGeom>
          <a:ln w="0">
            <a:noFill/>
          </a:ln>
        </p:spPr>
      </p:pic>
      <p:sp>
        <p:nvSpPr>
          <p:cNvPr id="695" name="椭圆 23"/>
          <p:cNvSpPr/>
          <p:nvPr/>
        </p:nvSpPr>
        <p:spPr>
          <a:xfrm>
            <a:off x="3835440" y="4154400"/>
            <a:ext cx="1039680" cy="1027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宋体"/>
                <a:ea typeface="Arial Unicode MS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24"/>
          <p:cNvSpPr/>
          <p:nvPr/>
        </p:nvSpPr>
        <p:spPr>
          <a:xfrm>
            <a:off x="1440" y="3973680"/>
            <a:ext cx="4356360" cy="195120"/>
          </a:xfrm>
          <a:prstGeom prst="rect">
            <a:avLst/>
          </a:prstGeom>
          <a:solidFill>
            <a:srgbClr val="f07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同心圆 25"/>
          <p:cNvSpPr/>
          <p:nvPr/>
        </p:nvSpPr>
        <p:spPr>
          <a:xfrm flipV="1">
            <a:off x="3637080" y="3973680"/>
            <a:ext cx="1423800" cy="1403280"/>
          </a:xfrm>
          <a:custGeom>
            <a:avLst/>
            <a:gdLst/>
            <a:ahLst/>
            <a:rect l="l" t="t" r="r" b="b"/>
            <a:pathLst>
              <a:path w="1423987" h="1403350">
                <a:moveTo>
                  <a:pt x="0" y="701675"/>
                </a:moveTo>
                <a:cubicBezTo>
                  <a:pt x="0" y="314151"/>
                  <a:pt x="318770" y="0"/>
                  <a:pt x="711993" y="0"/>
                </a:cubicBezTo>
                <a:cubicBezTo>
                  <a:pt x="1105216" y="0"/>
                  <a:pt x="1423986" y="314151"/>
                  <a:pt x="1423986" y="701675"/>
                </a:cubicBezTo>
                <a:cubicBezTo>
                  <a:pt x="1423986" y="1089199"/>
                  <a:pt x="1105216" y="1403350"/>
                  <a:pt x="711993" y="1403350"/>
                </a:cubicBezTo>
                <a:cubicBezTo>
                  <a:pt x="318770" y="1403350"/>
                  <a:pt x="0" y="1089199"/>
                  <a:pt x="0" y="701675"/>
                </a:cubicBezTo>
                <a:close/>
                <a:moveTo>
                  <a:pt x="194335" y="701675"/>
                </a:moveTo>
                <a:cubicBezTo>
                  <a:pt x="194335" y="981871"/>
                  <a:pt x="426098" y="1209014"/>
                  <a:pt x="711992" y="1209014"/>
                </a:cubicBezTo>
                <a:cubicBezTo>
                  <a:pt x="997886" y="1209014"/>
                  <a:pt x="1229649" y="981871"/>
                  <a:pt x="1229649" y="701675"/>
                </a:cubicBezTo>
                <a:cubicBezTo>
                  <a:pt x="1229649" y="421479"/>
                  <a:pt x="997886" y="194336"/>
                  <a:pt x="711992" y="194336"/>
                </a:cubicBezTo>
                <a:cubicBezTo>
                  <a:pt x="426098" y="194336"/>
                  <a:pt x="194335" y="421479"/>
                  <a:pt x="194335" y="701675"/>
                </a:cubicBezTo>
                <a:close/>
              </a:path>
            </a:pathLst>
          </a:custGeom>
          <a:solidFill>
            <a:srgbClr val="f07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33"/>
          <p:cNvSpPr/>
          <p:nvPr/>
        </p:nvSpPr>
        <p:spPr>
          <a:xfrm>
            <a:off x="6732720" y="2603520"/>
            <a:ext cx="25905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是一个战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款是一个局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34"/>
          <p:cNvSpPr/>
          <p:nvPr/>
        </p:nvSpPr>
        <p:spPr>
          <a:xfrm>
            <a:off x="5221440" y="4278240"/>
            <a:ext cx="34765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互联网就如同一个黑暗森林，只有爆品才能绽放烟花，要爆得高，爆得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图片 2" descr="探百村-logo-标志图形-组合1"/>
          <p:cNvPicPr/>
          <p:nvPr/>
        </p:nvPicPr>
        <p:blipFill>
          <a:blip r:embed="rId2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椭圆 15"/>
          <p:cNvSpPr/>
          <p:nvPr/>
        </p:nvSpPr>
        <p:spPr>
          <a:xfrm>
            <a:off x="2695680" y="4662360"/>
            <a:ext cx="799920" cy="79848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7"/>
          <p:cNvSpPr/>
          <p:nvPr/>
        </p:nvSpPr>
        <p:spPr>
          <a:xfrm>
            <a:off x="6534000" y="3619440"/>
            <a:ext cx="1702080" cy="1701720"/>
          </a:xfrm>
          <a:prstGeom prst="ellipse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8"/>
          <p:cNvSpPr/>
          <p:nvPr/>
        </p:nvSpPr>
        <p:spPr>
          <a:xfrm>
            <a:off x="3797280" y="1397160"/>
            <a:ext cx="3543480" cy="3543120"/>
          </a:xfrm>
          <a:prstGeom prst="ellipse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椭圆 1"/>
          <p:cNvSpPr/>
          <p:nvPr/>
        </p:nvSpPr>
        <p:spPr>
          <a:xfrm>
            <a:off x="6534000" y="812880"/>
            <a:ext cx="2590920" cy="259056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椭圆 9"/>
          <p:cNvSpPr/>
          <p:nvPr/>
        </p:nvSpPr>
        <p:spPr>
          <a:xfrm>
            <a:off x="2954160" y="3390840"/>
            <a:ext cx="1930680" cy="193032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椭圆 10"/>
          <p:cNvSpPr/>
          <p:nvPr/>
        </p:nvSpPr>
        <p:spPr>
          <a:xfrm>
            <a:off x="1914480" y="1397160"/>
            <a:ext cx="514440" cy="51408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椭圆 11"/>
          <p:cNvSpPr/>
          <p:nvPr/>
        </p:nvSpPr>
        <p:spPr>
          <a:xfrm>
            <a:off x="5280120" y="5842080"/>
            <a:ext cx="288720" cy="288720"/>
          </a:xfrm>
          <a:prstGeom prst="ellipse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椭圆 12"/>
          <p:cNvSpPr/>
          <p:nvPr/>
        </p:nvSpPr>
        <p:spPr>
          <a:xfrm>
            <a:off x="9815400" y="2139840"/>
            <a:ext cx="524160" cy="52416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椭圆 13"/>
          <p:cNvSpPr/>
          <p:nvPr/>
        </p:nvSpPr>
        <p:spPr>
          <a:xfrm>
            <a:off x="5045040" y="412920"/>
            <a:ext cx="798480" cy="79992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椭圆 14"/>
          <p:cNvSpPr/>
          <p:nvPr/>
        </p:nvSpPr>
        <p:spPr>
          <a:xfrm>
            <a:off x="9763200" y="4819680"/>
            <a:ext cx="244440" cy="243000"/>
          </a:xfrm>
          <a:prstGeom prst="ellipse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2"/>
          <p:cNvSpPr/>
          <p:nvPr/>
        </p:nvSpPr>
        <p:spPr>
          <a:xfrm>
            <a:off x="4838760" y="1384200"/>
            <a:ext cx="1625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方正姚体"/>
                <a:ea typeface="方正姚体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7"/>
          <p:cNvSpPr/>
          <p:nvPr/>
        </p:nvSpPr>
        <p:spPr>
          <a:xfrm>
            <a:off x="7365600" y="1846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爆品战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" descr="探百村-logo-标志图形"/>
          <p:cNvPicPr/>
          <p:nvPr/>
        </p:nvPicPr>
        <p:blipFill>
          <a:blip r:embed="rId2"/>
          <a:stretch/>
        </p:blipFill>
        <p:spPr>
          <a:xfrm>
            <a:off x="415800" y="306360"/>
            <a:ext cx="190836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 9"/>
          <p:cNvSpPr/>
          <p:nvPr/>
        </p:nvSpPr>
        <p:spPr>
          <a:xfrm>
            <a:off x="2228040" y="76320"/>
            <a:ext cx="21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流量战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1"/>
          <p:cNvSpPr/>
          <p:nvPr/>
        </p:nvSpPr>
        <p:spPr>
          <a:xfrm>
            <a:off x="4345920" y="17668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互联网竞争得本质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是流量的竞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27"/>
          <p:cNvSpPr/>
          <p:nvPr/>
        </p:nvSpPr>
        <p:spPr>
          <a:xfrm>
            <a:off x="5371200" y="319896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？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什么传统企业转型做互联网一不小心就被互联网公司干掉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30"/>
          <p:cNvSpPr/>
          <p:nvPr/>
        </p:nvSpPr>
        <p:spPr>
          <a:xfrm>
            <a:off x="2924640" y="4267080"/>
            <a:ext cx="603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？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什么传统品牌流量经营方式，称之为“工厂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+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品牌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+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广告”的模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互联网时代全面失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9"/>
          <p:cNvSpPr/>
          <p:nvPr/>
        </p:nvSpPr>
        <p:spPr>
          <a:xfrm>
            <a:off x="3418560" y="5865840"/>
            <a:ext cx="61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传统企业和品牌的三大死亡法则：</a:t>
            </a:r>
            <a:r>
              <a:rPr b="1" lang="zh-CN" sz="2800" spc="-1" strike="noStrike" u="sng">
                <a:solidFill>
                  <a:srgbClr val="c06c84"/>
                </a:solidFill>
                <a:uFillTx/>
                <a:latin typeface="微软雅黑"/>
                <a:ea typeface="微软雅黑"/>
              </a:rPr>
              <a:t>无尽黑暗！暗刀涌动！效益递减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矩形 9"/>
          <p:cNvSpPr/>
          <p:nvPr/>
        </p:nvSpPr>
        <p:spPr>
          <a:xfrm>
            <a:off x="2228040" y="76320"/>
            <a:ext cx="21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体法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9"/>
          <p:cNvSpPr/>
          <p:nvPr/>
        </p:nvSpPr>
        <p:spPr>
          <a:xfrm>
            <a:off x="5222160" y="2433600"/>
            <a:ext cx="15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一个法则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黑暗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圆角矩形 2"/>
          <p:cNvSpPr/>
          <p:nvPr/>
        </p:nvSpPr>
        <p:spPr>
          <a:xfrm>
            <a:off x="914400" y="3592440"/>
            <a:ext cx="10717200" cy="914400"/>
          </a:xfrm>
          <a:prstGeom prst="roundRect">
            <a:avLst>
              <a:gd name="adj" fmla="val 16667"/>
            </a:avLst>
          </a:prstGeom>
          <a:solidFill>
            <a:srgbClr val="c06c84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文本框 10"/>
          <p:cNvSpPr/>
          <p:nvPr/>
        </p:nvSpPr>
        <p:spPr>
          <a:xfrm>
            <a:off x="5519520" y="38178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什么提爆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组 8"/>
          <p:cNvGrpSpPr/>
          <p:nvPr/>
        </p:nvGrpSpPr>
        <p:grpSpPr>
          <a:xfrm>
            <a:off x="914400" y="3591000"/>
            <a:ext cx="10717200" cy="914400"/>
            <a:chOff x="914400" y="3591000"/>
            <a:chExt cx="10717200" cy="914400"/>
          </a:xfrm>
        </p:grpSpPr>
        <p:sp>
          <p:nvSpPr>
            <p:cNvPr id="733" name="圆角矩形 15"/>
            <p:cNvSpPr/>
            <p:nvPr/>
          </p:nvSpPr>
          <p:spPr>
            <a:xfrm>
              <a:off x="914400" y="3591000"/>
              <a:ext cx="10717200" cy="914400"/>
            </a:xfrm>
            <a:prstGeom prst="roundRect">
              <a:avLst>
                <a:gd name="adj" fmla="val 16667"/>
              </a:avLst>
            </a:prstGeom>
            <a:solidFill>
              <a:srgbClr val="c06c84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文本框 11"/>
            <p:cNvSpPr/>
            <p:nvPr/>
          </p:nvSpPr>
          <p:spPr>
            <a:xfrm>
              <a:off x="3188160" y="3815280"/>
              <a:ext cx="621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互联网的流量黑暗森林里，遇到一个巨大的、无边的黑暗，伸手不见五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组 7"/>
          <p:cNvGrpSpPr/>
          <p:nvPr/>
        </p:nvGrpSpPr>
        <p:grpSpPr>
          <a:xfrm>
            <a:off x="914400" y="3605040"/>
            <a:ext cx="10717200" cy="914400"/>
            <a:chOff x="914400" y="3605040"/>
            <a:chExt cx="10717200" cy="914400"/>
          </a:xfrm>
        </p:grpSpPr>
        <p:sp>
          <p:nvSpPr>
            <p:cNvPr id="736" name="圆角矩形 19"/>
            <p:cNvSpPr/>
            <p:nvPr/>
          </p:nvSpPr>
          <p:spPr>
            <a:xfrm>
              <a:off x="914400" y="3605040"/>
              <a:ext cx="10717200" cy="914400"/>
            </a:xfrm>
            <a:prstGeom prst="roundRect">
              <a:avLst>
                <a:gd name="adj" fmla="val 16667"/>
              </a:avLst>
            </a:prstGeom>
            <a:solidFill>
              <a:srgbClr val="c06c84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文本框 12"/>
            <p:cNvSpPr/>
            <p:nvPr/>
          </p:nvSpPr>
          <p:spPr>
            <a:xfrm>
              <a:off x="3353040" y="3831480"/>
              <a:ext cx="621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传统线下品牌依靠线下开店，不做广告，流量可能滚滚而来，因为区域流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组 6"/>
          <p:cNvGrpSpPr/>
          <p:nvPr/>
        </p:nvGrpSpPr>
        <p:grpSpPr>
          <a:xfrm>
            <a:off x="914400" y="3605040"/>
            <a:ext cx="10717200" cy="914400"/>
            <a:chOff x="914400" y="3605040"/>
            <a:chExt cx="10717200" cy="914400"/>
          </a:xfrm>
        </p:grpSpPr>
        <p:sp>
          <p:nvSpPr>
            <p:cNvPr id="739" name="圆角矩形 20"/>
            <p:cNvSpPr/>
            <p:nvPr/>
          </p:nvSpPr>
          <p:spPr>
            <a:xfrm>
              <a:off x="914400" y="3605040"/>
              <a:ext cx="10717200" cy="914400"/>
            </a:xfrm>
            <a:prstGeom prst="roundRect">
              <a:avLst>
                <a:gd name="adj" fmla="val 16667"/>
              </a:avLst>
            </a:prstGeom>
            <a:solidFill>
              <a:srgbClr val="c06c84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文本框 13"/>
            <p:cNvSpPr/>
            <p:nvPr/>
          </p:nvSpPr>
          <p:spPr>
            <a:xfrm>
              <a:off x="3441600" y="3853080"/>
              <a:ext cx="585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互联网上，只有爆品，烟花，才能让大家看到你，爆品的重要性于此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1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平行四边形 74"/>
          <p:cNvSpPr/>
          <p:nvPr/>
        </p:nvSpPr>
        <p:spPr>
          <a:xfrm flipH="1" flipV="1">
            <a:off x="6126120" y="3532320"/>
            <a:ext cx="3090960" cy="2031840"/>
          </a:xfrm>
          <a:prstGeom prst="parallelogram">
            <a:avLst>
              <a:gd name="adj" fmla="val 24995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任意多边形 77"/>
          <p:cNvSpPr/>
          <p:nvPr/>
        </p:nvSpPr>
        <p:spPr>
          <a:xfrm flipH="1" flipV="1">
            <a:off x="5388120" y="3532320"/>
            <a:ext cx="1923840" cy="2031840"/>
          </a:xfrm>
          <a:custGeom>
            <a:avLst/>
            <a:gdLst/>
            <a:ahLst/>
            <a:rect l="l" t="t" r="r" b="b"/>
            <a:pathLst>
              <a:path w="1924050" h="2031999">
                <a:moveTo>
                  <a:pt x="1416050" y="2031999"/>
                </a:moveTo>
                <a:lnTo>
                  <a:pt x="757236" y="2031999"/>
                </a:lnTo>
                <a:lnTo>
                  <a:pt x="1265236" y="1"/>
                </a:lnTo>
                <a:lnTo>
                  <a:pt x="0" y="1"/>
                </a:lnTo>
                <a:lnTo>
                  <a:pt x="0" y="0"/>
                </a:lnTo>
                <a:lnTo>
                  <a:pt x="1924050" y="0"/>
                </a:lnTo>
                <a:lnTo>
                  <a:pt x="1416050" y="2031999"/>
                </a:lnTo>
                <a:close/>
              </a:path>
            </a:pathLst>
          </a:cu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任意多边形 80"/>
          <p:cNvSpPr/>
          <p:nvPr/>
        </p:nvSpPr>
        <p:spPr>
          <a:xfrm flipH="1" flipV="1">
            <a:off x="8782920" y="3532320"/>
            <a:ext cx="1924200" cy="2031840"/>
          </a:xfrm>
          <a:custGeom>
            <a:avLst/>
            <a:gdLst/>
            <a:ahLst/>
            <a:rect l="l" t="t" r="r" b="b"/>
            <a:pathLst>
              <a:path w="1924050" h="2031999">
                <a:moveTo>
                  <a:pt x="1416050" y="2031999"/>
                </a:moveTo>
                <a:lnTo>
                  <a:pt x="938746" y="2031999"/>
                </a:lnTo>
                <a:lnTo>
                  <a:pt x="1446746" y="1"/>
                </a:lnTo>
                <a:lnTo>
                  <a:pt x="0" y="1"/>
                </a:lnTo>
                <a:lnTo>
                  <a:pt x="0" y="0"/>
                </a:lnTo>
                <a:lnTo>
                  <a:pt x="1924050" y="0"/>
                </a:lnTo>
                <a:lnTo>
                  <a:pt x="1416050" y="2031999"/>
                </a:lnTo>
                <a:close/>
              </a:path>
            </a:pathLst>
          </a:cu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任意多边形 83"/>
          <p:cNvSpPr/>
          <p:nvPr/>
        </p:nvSpPr>
        <p:spPr>
          <a:xfrm flipH="1" flipV="1">
            <a:off x="9334440" y="3532320"/>
            <a:ext cx="822240" cy="2031840"/>
          </a:xfrm>
          <a:custGeom>
            <a:avLst/>
            <a:gdLst/>
            <a:ahLst/>
            <a:rect l="l" t="t" r="r" b="b"/>
            <a:pathLst>
              <a:path w="822330" h="2031999">
                <a:moveTo>
                  <a:pt x="314330" y="2031999"/>
                </a:moveTo>
                <a:lnTo>
                  <a:pt x="0" y="2031999"/>
                </a:lnTo>
                <a:lnTo>
                  <a:pt x="508000" y="0"/>
                </a:lnTo>
                <a:lnTo>
                  <a:pt x="822330" y="0"/>
                </a:lnTo>
                <a:lnTo>
                  <a:pt x="314330" y="2031999"/>
                </a:lnTo>
                <a:close/>
              </a:path>
            </a:pathLst>
          </a:cu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任意多边形 86"/>
          <p:cNvSpPr/>
          <p:nvPr/>
        </p:nvSpPr>
        <p:spPr>
          <a:xfrm flipH="1" flipV="1">
            <a:off x="9725040" y="3532320"/>
            <a:ext cx="689040" cy="2031840"/>
          </a:xfrm>
          <a:custGeom>
            <a:avLst/>
            <a:gdLst/>
            <a:ahLst/>
            <a:rect l="l" t="t" r="r" b="b"/>
            <a:pathLst>
              <a:path w="688447" h="2031999">
                <a:moveTo>
                  <a:pt x="180447" y="2031999"/>
                </a:moveTo>
                <a:lnTo>
                  <a:pt x="0" y="2031999"/>
                </a:lnTo>
                <a:lnTo>
                  <a:pt x="508000" y="0"/>
                </a:lnTo>
                <a:lnTo>
                  <a:pt x="688447" y="0"/>
                </a:lnTo>
                <a:lnTo>
                  <a:pt x="180447" y="2031999"/>
                </a:lnTo>
                <a:close/>
              </a:path>
            </a:pathLst>
          </a:cu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平行四边形 89"/>
          <p:cNvSpPr/>
          <p:nvPr/>
        </p:nvSpPr>
        <p:spPr>
          <a:xfrm flipV="1">
            <a:off x="2709720" y="1425960"/>
            <a:ext cx="3090960" cy="2032200"/>
          </a:xfrm>
          <a:prstGeom prst="parallelogram">
            <a:avLst>
              <a:gd name="adj" fmla="val 24991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任意多边形 90"/>
          <p:cNvSpPr/>
          <p:nvPr/>
        </p:nvSpPr>
        <p:spPr>
          <a:xfrm flipV="1">
            <a:off x="4614840" y="1425960"/>
            <a:ext cx="1924200" cy="2032200"/>
          </a:xfrm>
          <a:custGeom>
            <a:avLst/>
            <a:gdLst/>
            <a:ahLst/>
            <a:rect l="l" t="t" r="r" b="b"/>
            <a:pathLst>
              <a:path w="1924050" h="2031999">
                <a:moveTo>
                  <a:pt x="1416050" y="2031999"/>
                </a:moveTo>
                <a:lnTo>
                  <a:pt x="757236" y="2031999"/>
                </a:lnTo>
                <a:lnTo>
                  <a:pt x="1265236" y="1"/>
                </a:lnTo>
                <a:lnTo>
                  <a:pt x="0" y="1"/>
                </a:lnTo>
                <a:lnTo>
                  <a:pt x="0" y="0"/>
                </a:lnTo>
                <a:lnTo>
                  <a:pt x="1924050" y="0"/>
                </a:lnTo>
                <a:lnTo>
                  <a:pt x="1416050" y="2031999"/>
                </a:lnTo>
                <a:close/>
              </a:path>
            </a:pathLst>
          </a:cu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任意多边形 91"/>
          <p:cNvSpPr/>
          <p:nvPr/>
        </p:nvSpPr>
        <p:spPr>
          <a:xfrm flipV="1">
            <a:off x="1219320" y="1425960"/>
            <a:ext cx="1923840" cy="2032200"/>
          </a:xfrm>
          <a:custGeom>
            <a:avLst/>
            <a:gdLst/>
            <a:ahLst/>
            <a:rect l="l" t="t" r="r" b="b"/>
            <a:pathLst>
              <a:path w="1924050" h="2031999">
                <a:moveTo>
                  <a:pt x="1416050" y="2031999"/>
                </a:moveTo>
                <a:lnTo>
                  <a:pt x="938746" y="2031999"/>
                </a:lnTo>
                <a:lnTo>
                  <a:pt x="1446746" y="1"/>
                </a:lnTo>
                <a:lnTo>
                  <a:pt x="0" y="1"/>
                </a:lnTo>
                <a:lnTo>
                  <a:pt x="0" y="0"/>
                </a:lnTo>
                <a:lnTo>
                  <a:pt x="1924050" y="0"/>
                </a:lnTo>
                <a:lnTo>
                  <a:pt x="1416050" y="2031999"/>
                </a:lnTo>
                <a:close/>
              </a:path>
            </a:pathLst>
          </a:cu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任意多边形 92"/>
          <p:cNvSpPr/>
          <p:nvPr/>
        </p:nvSpPr>
        <p:spPr>
          <a:xfrm flipV="1">
            <a:off x="1770120" y="1426320"/>
            <a:ext cx="822240" cy="2032200"/>
          </a:xfrm>
          <a:custGeom>
            <a:avLst/>
            <a:gdLst/>
            <a:ahLst/>
            <a:rect l="l" t="t" r="r" b="b"/>
            <a:pathLst>
              <a:path w="822330" h="2031999">
                <a:moveTo>
                  <a:pt x="314330" y="2031999"/>
                </a:moveTo>
                <a:lnTo>
                  <a:pt x="0" y="2031999"/>
                </a:lnTo>
                <a:lnTo>
                  <a:pt x="508000" y="0"/>
                </a:lnTo>
                <a:lnTo>
                  <a:pt x="822330" y="0"/>
                </a:lnTo>
                <a:lnTo>
                  <a:pt x="314330" y="2031999"/>
                </a:lnTo>
                <a:close/>
              </a:path>
            </a:pathLst>
          </a:cu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任意多边形 93"/>
          <p:cNvSpPr/>
          <p:nvPr/>
        </p:nvSpPr>
        <p:spPr>
          <a:xfrm flipV="1">
            <a:off x="1514520" y="1426320"/>
            <a:ext cx="689040" cy="2032200"/>
          </a:xfrm>
          <a:custGeom>
            <a:avLst/>
            <a:gdLst/>
            <a:ahLst/>
            <a:rect l="l" t="t" r="r" b="b"/>
            <a:pathLst>
              <a:path w="688447" h="2031999">
                <a:moveTo>
                  <a:pt x="180447" y="2031999"/>
                </a:moveTo>
                <a:lnTo>
                  <a:pt x="0" y="2031999"/>
                </a:lnTo>
                <a:lnTo>
                  <a:pt x="508000" y="0"/>
                </a:lnTo>
                <a:lnTo>
                  <a:pt x="688447" y="0"/>
                </a:lnTo>
                <a:lnTo>
                  <a:pt x="180447" y="2031999"/>
                </a:lnTo>
                <a:close/>
              </a:path>
            </a:pathLst>
          </a:cu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文本框 94"/>
          <p:cNvSpPr/>
          <p:nvPr/>
        </p:nvSpPr>
        <p:spPr>
          <a:xfrm>
            <a:off x="7094880" y="1550880"/>
            <a:ext cx="258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c5b7b"/>
                </a:solidFill>
                <a:latin typeface="Arial Rounded MT Bold"/>
                <a:ea typeface="Arial Rounded MT Bold"/>
              </a:rPr>
              <a:t>                   </a:t>
            </a:r>
            <a:r>
              <a:rPr b="0" lang="en-US" sz="3200" spc="-1" strike="noStrike">
                <a:solidFill>
                  <a:srgbClr val="6c5b7b"/>
                </a:solidFill>
                <a:latin typeface="Arial Rounded MT Bold"/>
                <a:ea typeface="Arial Rounded MT Bold"/>
              </a:rPr>
              <a:t>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线下占</a:t>
            </a:r>
            <a:r>
              <a:rPr b="1" lang="en-US" sz="3200" spc="-1" strike="noStrike">
                <a:solidFill>
                  <a:srgbClr val="f07180"/>
                </a:solidFill>
                <a:latin typeface="Arial Rounded MT Bold"/>
                <a:ea typeface="Arial Rounded MT Bold"/>
              </a:rPr>
              <a:t>90%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，线上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文本框 95"/>
          <p:cNvSpPr/>
          <p:nvPr/>
        </p:nvSpPr>
        <p:spPr>
          <a:xfrm>
            <a:off x="2143080" y="3855960"/>
            <a:ext cx="274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r>
              <a:rPr b="0" lang="en-US" sz="3200" spc="-1" strike="noStrike">
                <a:solidFill>
                  <a:srgbClr val="f07180"/>
                </a:solidFill>
                <a:latin typeface="Arial Rounded MT Bold"/>
                <a:ea typeface="Arial Rounded MT Bold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线上占</a:t>
            </a:r>
            <a:r>
              <a:rPr b="1" lang="en-US" sz="3200" spc="-1" strike="noStrike">
                <a:solidFill>
                  <a:srgbClr val="ff0000"/>
                </a:solidFill>
                <a:latin typeface="Arial Rounded MT Bold"/>
                <a:ea typeface="Arial Rounded MT Bold"/>
              </a:rPr>
              <a:t>60%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，线下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矩形 9"/>
          <p:cNvSpPr/>
          <p:nvPr/>
        </p:nvSpPr>
        <p:spPr>
          <a:xfrm>
            <a:off x="2228040" y="76320"/>
            <a:ext cx="21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体法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文本框 1"/>
          <p:cNvSpPr/>
          <p:nvPr/>
        </p:nvSpPr>
        <p:spPr>
          <a:xfrm>
            <a:off x="5559120" y="600696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07180"/>
                </a:solidFill>
                <a:latin typeface="微软雅黑"/>
                <a:ea typeface="微软雅黑"/>
              </a:rPr>
              <a:t>✦</a:t>
            </a:r>
            <a:r>
              <a:rPr b="1" lang="zh-CN" sz="2000" spc="-1" strike="noStrike">
                <a:solidFill>
                  <a:srgbClr val="f07180"/>
                </a:solidFill>
                <a:latin typeface="微软雅黑"/>
                <a:ea typeface="微软雅黑"/>
              </a:rPr>
              <a:t>线上引流的方式跟线下完全不一样。如果你不能掌握线上，你就会被黑暗吞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图片 2" descr="探百村-logo-标志图形-组合1"/>
          <p:cNvPicPr/>
          <p:nvPr/>
        </p:nvPicPr>
        <p:blipFill>
          <a:blip r:embed="rId4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矩形 9"/>
          <p:cNvSpPr/>
          <p:nvPr/>
        </p:nvSpPr>
        <p:spPr>
          <a:xfrm>
            <a:off x="2228040" y="76320"/>
            <a:ext cx="21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体法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文本框 9"/>
          <p:cNvSpPr/>
          <p:nvPr/>
        </p:nvSpPr>
        <p:spPr>
          <a:xfrm>
            <a:off x="4529520" y="3586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6c84"/>
                </a:solidFill>
                <a:latin typeface="微软雅黑"/>
                <a:ea typeface="微软雅黑"/>
              </a:rPr>
              <a:t>高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文本框 18"/>
          <p:cNvSpPr/>
          <p:nvPr/>
        </p:nvSpPr>
        <p:spPr>
          <a:xfrm>
            <a:off x="4917240" y="235584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个法则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暗刀涌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矩形 1"/>
          <p:cNvSpPr/>
          <p:nvPr/>
        </p:nvSpPr>
        <p:spPr>
          <a:xfrm>
            <a:off x="5936040" y="3368520"/>
            <a:ext cx="6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r-IN" sz="6000" spc="-1" strike="noStrike">
                <a:solidFill>
                  <a:srgbClr val="c00000"/>
                </a:solidFill>
                <a:latin typeface="微软雅黑"/>
                <a:ea typeface="微软雅黑"/>
              </a:rPr>
              <a:t>&g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文本框 21"/>
          <p:cNvSpPr/>
          <p:nvPr/>
        </p:nvSpPr>
        <p:spPr>
          <a:xfrm>
            <a:off x="6977520" y="3586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c5b7b"/>
                </a:solidFill>
                <a:latin typeface="微软雅黑"/>
                <a:ea typeface="微软雅黑"/>
              </a:rPr>
              <a:t>低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文本框 22"/>
          <p:cNvSpPr/>
          <p:nvPr/>
        </p:nvSpPr>
        <p:spPr>
          <a:xfrm>
            <a:off x="3894120" y="4975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外卖打团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文本框 23"/>
          <p:cNvSpPr/>
          <p:nvPr/>
        </p:nvSpPr>
        <p:spPr>
          <a:xfrm>
            <a:off x="5777640" y="4975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滴滴打易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文本框 24"/>
          <p:cNvSpPr/>
          <p:nvPr/>
        </p:nvSpPr>
        <p:spPr>
          <a:xfrm>
            <a:off x="7570800" y="497520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Ube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打滴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任意多边形 111"/>
          <p:cNvSpPr/>
          <p:nvPr/>
        </p:nvSpPr>
        <p:spPr>
          <a:xfrm rot="20299800">
            <a:off x="5305320" y="6117840"/>
            <a:ext cx="3878280" cy="695520"/>
          </a:xfrm>
          <a:custGeom>
            <a:avLst/>
            <a:gdLst/>
            <a:ahLst/>
            <a:rect l="l" t="t" r="r" b="b"/>
            <a:pathLst>
              <a:path w="3877060" h="696658">
                <a:moveTo>
                  <a:pt x="3877060" y="0"/>
                </a:moveTo>
                <a:lnTo>
                  <a:pt x="3877060" y="696658"/>
                </a:lnTo>
                <a:lnTo>
                  <a:pt x="1753615" y="696658"/>
                </a:lnTo>
                <a:lnTo>
                  <a:pt x="0" y="0"/>
                </a:lnTo>
                <a:lnTo>
                  <a:pt x="3877060" y="0"/>
                </a:lnTo>
                <a:close/>
              </a:path>
            </a:pathLst>
          </a:custGeom>
          <a:solidFill>
            <a:srgbClr val="f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组合 112"/>
          <p:cNvGrpSpPr/>
          <p:nvPr/>
        </p:nvGrpSpPr>
        <p:grpSpPr>
          <a:xfrm>
            <a:off x="3244680" y="2496960"/>
            <a:ext cx="5819760" cy="1405440"/>
            <a:chOff x="3244680" y="2496960"/>
            <a:chExt cx="5819760" cy="1405440"/>
          </a:xfrm>
        </p:grpSpPr>
        <p:sp>
          <p:nvSpPr>
            <p:cNvPr id="557" name="任意多边形 113"/>
            <p:cNvSpPr/>
            <p:nvPr/>
          </p:nvSpPr>
          <p:spPr>
            <a:xfrm rot="21420000">
              <a:off x="3269880" y="2647440"/>
              <a:ext cx="5433840" cy="1113120"/>
            </a:xfrm>
            <a:custGeom>
              <a:avLst/>
              <a:gdLst/>
              <a:ahLst/>
              <a:rect l="l" t="t" r="r" b="b"/>
              <a:pathLst>
                <a:path w="5434943" h="1112025">
                  <a:moveTo>
                    <a:pt x="5434943" y="0"/>
                  </a:moveTo>
                  <a:lnTo>
                    <a:pt x="2056877" y="1112025"/>
                  </a:lnTo>
                  <a:lnTo>
                    <a:pt x="0" y="1112025"/>
                  </a:lnTo>
                  <a:lnTo>
                    <a:pt x="0" y="754453"/>
                  </a:lnTo>
                  <a:lnTo>
                    <a:pt x="2291847" y="0"/>
                  </a:lnTo>
                  <a:lnTo>
                    <a:pt x="5434943" y="0"/>
                  </a:lnTo>
                  <a:close/>
                </a:path>
              </a:pathLst>
            </a:custGeom>
            <a:solidFill>
              <a:srgbClr val="5d4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114"/>
            <p:cNvSpPr/>
            <p:nvPr/>
          </p:nvSpPr>
          <p:spPr>
            <a:xfrm rot="21420000">
              <a:off x="3606480" y="2638440"/>
              <a:ext cx="5432400" cy="1113120"/>
            </a:xfrm>
            <a:custGeom>
              <a:avLst/>
              <a:gdLst/>
              <a:ahLst/>
              <a:rect l="l" t="t" r="r" b="b"/>
              <a:pathLst>
                <a:path w="5433500" h="1112025">
                  <a:moveTo>
                    <a:pt x="5433500" y="0"/>
                  </a:moveTo>
                  <a:lnTo>
                    <a:pt x="5433500" y="358047"/>
                  </a:lnTo>
                  <a:lnTo>
                    <a:pt x="3143096" y="1112025"/>
                  </a:lnTo>
                  <a:lnTo>
                    <a:pt x="0" y="1112025"/>
                  </a:lnTo>
                  <a:lnTo>
                    <a:pt x="3378066" y="0"/>
                  </a:lnTo>
                  <a:lnTo>
                    <a:pt x="5433500" y="0"/>
                  </a:lnTo>
                  <a:close/>
                </a:path>
              </a:pathLst>
            </a:custGeom>
            <a:solidFill>
              <a:srgbClr val="5d4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组合 115"/>
          <p:cNvGrpSpPr/>
          <p:nvPr/>
        </p:nvGrpSpPr>
        <p:grpSpPr>
          <a:xfrm>
            <a:off x="3303720" y="3573360"/>
            <a:ext cx="5821560" cy="1403640"/>
            <a:chOff x="3303720" y="3573360"/>
            <a:chExt cx="5821560" cy="1403640"/>
          </a:xfrm>
        </p:grpSpPr>
        <p:sp>
          <p:nvSpPr>
            <p:cNvPr id="560" name="任意多边形 116"/>
            <p:cNvSpPr/>
            <p:nvPr/>
          </p:nvSpPr>
          <p:spPr>
            <a:xfrm rot="21420000">
              <a:off x="3328920" y="3723840"/>
              <a:ext cx="5435640" cy="1111320"/>
            </a:xfrm>
            <a:custGeom>
              <a:avLst/>
              <a:gdLst/>
              <a:ahLst/>
              <a:rect l="l" t="t" r="r" b="b"/>
              <a:pathLst>
                <a:path w="5434943" h="1112025">
                  <a:moveTo>
                    <a:pt x="5434943" y="0"/>
                  </a:moveTo>
                  <a:lnTo>
                    <a:pt x="2056877" y="1112025"/>
                  </a:lnTo>
                  <a:lnTo>
                    <a:pt x="0" y="1112025"/>
                  </a:lnTo>
                  <a:lnTo>
                    <a:pt x="0" y="754453"/>
                  </a:lnTo>
                  <a:lnTo>
                    <a:pt x="2291847" y="0"/>
                  </a:lnTo>
                  <a:lnTo>
                    <a:pt x="5434943" y="0"/>
                  </a:lnTo>
                  <a:close/>
                </a:path>
              </a:pathLst>
            </a:custGeom>
            <a:solidFill>
              <a:srgbClr val="b85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117"/>
            <p:cNvSpPr/>
            <p:nvPr/>
          </p:nvSpPr>
          <p:spPr>
            <a:xfrm rot="21420000">
              <a:off x="3665520" y="3714480"/>
              <a:ext cx="5434200" cy="1111320"/>
            </a:xfrm>
            <a:custGeom>
              <a:avLst/>
              <a:gdLst/>
              <a:ahLst/>
              <a:rect l="l" t="t" r="r" b="b"/>
              <a:pathLst>
                <a:path w="5433500" h="1112025">
                  <a:moveTo>
                    <a:pt x="5433500" y="0"/>
                  </a:moveTo>
                  <a:lnTo>
                    <a:pt x="5433500" y="358047"/>
                  </a:lnTo>
                  <a:lnTo>
                    <a:pt x="3143096" y="1112025"/>
                  </a:lnTo>
                  <a:lnTo>
                    <a:pt x="0" y="1112025"/>
                  </a:lnTo>
                  <a:lnTo>
                    <a:pt x="3378066" y="0"/>
                  </a:lnTo>
                  <a:lnTo>
                    <a:pt x="5433500" y="0"/>
                  </a:lnTo>
                  <a:close/>
                </a:path>
              </a:pathLst>
            </a:custGeom>
            <a:solidFill>
              <a:srgbClr val="b85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118"/>
          <p:cNvGrpSpPr/>
          <p:nvPr/>
        </p:nvGrpSpPr>
        <p:grpSpPr>
          <a:xfrm>
            <a:off x="3352680" y="4633560"/>
            <a:ext cx="5821200" cy="1419840"/>
            <a:chOff x="3352680" y="4633560"/>
            <a:chExt cx="5821200" cy="1419840"/>
          </a:xfrm>
        </p:grpSpPr>
        <p:sp>
          <p:nvSpPr>
            <p:cNvPr id="563" name="任意多边形 119"/>
            <p:cNvSpPr/>
            <p:nvPr/>
          </p:nvSpPr>
          <p:spPr>
            <a:xfrm rot="21420000">
              <a:off x="3377880" y="4774680"/>
              <a:ext cx="5435280" cy="1112760"/>
            </a:xfrm>
            <a:custGeom>
              <a:avLst/>
              <a:gdLst/>
              <a:ahLst/>
              <a:rect l="l" t="t" r="r" b="b"/>
              <a:pathLst>
                <a:path w="5434943" h="1112025">
                  <a:moveTo>
                    <a:pt x="5434943" y="0"/>
                  </a:moveTo>
                  <a:lnTo>
                    <a:pt x="2056877" y="1112025"/>
                  </a:lnTo>
                  <a:lnTo>
                    <a:pt x="0" y="1112025"/>
                  </a:lnTo>
                  <a:lnTo>
                    <a:pt x="0" y="754453"/>
                  </a:lnTo>
                  <a:lnTo>
                    <a:pt x="2291847" y="0"/>
                  </a:lnTo>
                  <a:lnTo>
                    <a:pt x="5434943" y="0"/>
                  </a:lnTo>
                  <a:close/>
                </a:path>
              </a:pathLst>
            </a:custGeom>
            <a:solidFill>
              <a:srgbClr val="f45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任意多边形 120"/>
            <p:cNvSpPr/>
            <p:nvPr/>
          </p:nvSpPr>
          <p:spPr>
            <a:xfrm rot="21420000">
              <a:off x="3714480" y="4798800"/>
              <a:ext cx="5433840" cy="1112760"/>
            </a:xfrm>
            <a:custGeom>
              <a:avLst/>
              <a:gdLst/>
              <a:ahLst/>
              <a:rect l="l" t="t" r="r" b="b"/>
              <a:pathLst>
                <a:path w="5433500" h="1112025">
                  <a:moveTo>
                    <a:pt x="5433500" y="0"/>
                  </a:moveTo>
                  <a:lnTo>
                    <a:pt x="5433500" y="358047"/>
                  </a:lnTo>
                  <a:lnTo>
                    <a:pt x="3143096" y="1112025"/>
                  </a:lnTo>
                  <a:lnTo>
                    <a:pt x="0" y="1112025"/>
                  </a:lnTo>
                  <a:lnTo>
                    <a:pt x="3378066" y="0"/>
                  </a:lnTo>
                  <a:lnTo>
                    <a:pt x="5433500" y="0"/>
                  </a:lnTo>
                  <a:close/>
                </a:path>
              </a:pathLst>
            </a:custGeom>
            <a:solidFill>
              <a:srgbClr val="f45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组合 121"/>
          <p:cNvGrpSpPr/>
          <p:nvPr/>
        </p:nvGrpSpPr>
        <p:grpSpPr>
          <a:xfrm>
            <a:off x="8280360" y="0"/>
            <a:ext cx="1389240" cy="1287360"/>
            <a:chOff x="8280360" y="0"/>
            <a:chExt cx="1389240" cy="1287360"/>
          </a:xfrm>
        </p:grpSpPr>
        <p:sp>
          <p:nvSpPr>
            <p:cNvPr id="566" name="矩形 122"/>
            <p:cNvSpPr/>
            <p:nvPr/>
          </p:nvSpPr>
          <p:spPr>
            <a:xfrm>
              <a:off x="8280360" y="0"/>
              <a:ext cx="187560" cy="1287360"/>
            </a:xfrm>
            <a:prstGeom prst="rect">
              <a:avLst/>
            </a:pr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矩形 123"/>
            <p:cNvSpPr/>
            <p:nvPr/>
          </p:nvSpPr>
          <p:spPr>
            <a:xfrm>
              <a:off x="8510040" y="0"/>
              <a:ext cx="297720" cy="1287360"/>
            </a:xfrm>
            <a:prstGeom prst="rect">
              <a:avLst/>
            </a:pr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矩形 124"/>
            <p:cNvSpPr/>
            <p:nvPr/>
          </p:nvSpPr>
          <p:spPr>
            <a:xfrm>
              <a:off x="8849520" y="0"/>
              <a:ext cx="349920" cy="1287360"/>
            </a:xfrm>
            <a:prstGeom prst="rect">
              <a:avLst/>
            </a:pr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125"/>
            <p:cNvSpPr/>
            <p:nvPr/>
          </p:nvSpPr>
          <p:spPr>
            <a:xfrm>
              <a:off x="9241560" y="0"/>
              <a:ext cx="428040" cy="1287360"/>
            </a:xfrm>
            <a:prstGeom prst="rect">
              <a:avLst/>
            </a:prstGeom>
            <a:solidFill>
              <a:srgbClr val="6c5b7b"/>
            </a:solidFill>
            <a:ln w="12600">
              <a:solidFill>
                <a:srgbClr val="6c5b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126"/>
          <p:cNvGrpSpPr/>
          <p:nvPr/>
        </p:nvGrpSpPr>
        <p:grpSpPr>
          <a:xfrm>
            <a:off x="2506680" y="0"/>
            <a:ext cx="1388880" cy="1287360"/>
            <a:chOff x="2506680" y="0"/>
            <a:chExt cx="1388880" cy="1287360"/>
          </a:xfrm>
        </p:grpSpPr>
        <p:sp>
          <p:nvSpPr>
            <p:cNvPr id="571" name="矩形 127"/>
            <p:cNvSpPr/>
            <p:nvPr/>
          </p:nvSpPr>
          <p:spPr>
            <a:xfrm flipH="1">
              <a:off x="3707640" y="0"/>
              <a:ext cx="187560" cy="1287360"/>
            </a:xfrm>
            <a:prstGeom prst="rect">
              <a:avLst/>
            </a:pr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128"/>
            <p:cNvSpPr/>
            <p:nvPr/>
          </p:nvSpPr>
          <p:spPr>
            <a:xfrm flipH="1">
              <a:off x="3368880" y="0"/>
              <a:ext cx="297360" cy="1287360"/>
            </a:xfrm>
            <a:prstGeom prst="rect">
              <a:avLst/>
            </a:pr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矩形 129"/>
            <p:cNvSpPr/>
            <p:nvPr/>
          </p:nvSpPr>
          <p:spPr>
            <a:xfrm flipH="1">
              <a:off x="2976480" y="0"/>
              <a:ext cx="349560" cy="1287360"/>
            </a:xfrm>
            <a:prstGeom prst="rect">
              <a:avLst/>
            </a:pr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130"/>
            <p:cNvSpPr/>
            <p:nvPr/>
          </p:nvSpPr>
          <p:spPr>
            <a:xfrm flipH="1">
              <a:off x="2506320" y="0"/>
              <a:ext cx="428040" cy="1287360"/>
            </a:xfrm>
            <a:prstGeom prst="rect">
              <a:avLst/>
            </a:prstGeom>
            <a:solidFill>
              <a:srgbClr val="6c5b7b"/>
            </a:solidFill>
            <a:ln w="12600">
              <a:solidFill>
                <a:srgbClr val="6c5b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文本框 131"/>
          <p:cNvSpPr/>
          <p:nvPr/>
        </p:nvSpPr>
        <p:spPr>
          <a:xfrm>
            <a:off x="4137120" y="181080"/>
            <a:ext cx="383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CON</a:t>
            </a:r>
            <a:r>
              <a:rPr b="1" lang="zh-CN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T</a:t>
            </a:r>
            <a:r>
              <a:rPr b="1" lang="en-US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132"/>
          <p:cNvSpPr/>
          <p:nvPr/>
        </p:nvSpPr>
        <p:spPr>
          <a:xfrm rot="21420000">
            <a:off x="3231720" y="2319120"/>
            <a:ext cx="5791320" cy="69660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133"/>
          <p:cNvSpPr/>
          <p:nvPr/>
        </p:nvSpPr>
        <p:spPr>
          <a:xfrm rot="21420000">
            <a:off x="3287520" y="3387240"/>
            <a:ext cx="5790960" cy="69696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134"/>
          <p:cNvSpPr/>
          <p:nvPr/>
        </p:nvSpPr>
        <p:spPr>
          <a:xfrm rot="21420000">
            <a:off x="3343320" y="4470120"/>
            <a:ext cx="5791320" cy="69516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135"/>
          <p:cNvSpPr/>
          <p:nvPr/>
        </p:nvSpPr>
        <p:spPr>
          <a:xfrm rot="21420000">
            <a:off x="3398400" y="5517720"/>
            <a:ext cx="5791320" cy="69696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136"/>
          <p:cNvSpPr/>
          <p:nvPr/>
        </p:nvSpPr>
        <p:spPr>
          <a:xfrm rot="21360000">
            <a:off x="5639400" y="2598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知拓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137"/>
          <p:cNvSpPr/>
          <p:nvPr/>
        </p:nvSpPr>
        <p:spPr>
          <a:xfrm rot="21360000">
            <a:off x="5693400" y="3700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体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138"/>
          <p:cNvSpPr/>
          <p:nvPr/>
        </p:nvSpPr>
        <p:spPr>
          <a:xfrm rot="21360000">
            <a:off x="5860080" y="4750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找痛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139"/>
          <p:cNvSpPr/>
          <p:nvPr/>
        </p:nvSpPr>
        <p:spPr>
          <a:xfrm rot="21360000">
            <a:off x="5953680" y="5832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创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矩形 9"/>
          <p:cNvSpPr/>
          <p:nvPr/>
        </p:nvSpPr>
        <p:spPr>
          <a:xfrm>
            <a:off x="2228040" y="76320"/>
            <a:ext cx="21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体法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18"/>
          <p:cNvSpPr/>
          <p:nvPr/>
        </p:nvSpPr>
        <p:spPr>
          <a:xfrm>
            <a:off x="4917240" y="235584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三个法则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效益递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文本框 13"/>
          <p:cNvSpPr/>
          <p:nvPr/>
        </p:nvSpPr>
        <p:spPr>
          <a:xfrm>
            <a:off x="979560" y="3605040"/>
            <a:ext cx="106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想象：你的产品要在无尽黑暗里，要被认知，必须像烟花一样，爆得高，而且引爆点不能多，要专注，才能建立更坚固的“护城河”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文本框 14"/>
          <p:cNvSpPr/>
          <p:nvPr/>
        </p:nvSpPr>
        <p:spPr>
          <a:xfrm>
            <a:off x="2355840" y="4589640"/>
            <a:ext cx="7480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6c84"/>
                </a:solidFill>
                <a:latin typeface="微软雅黑"/>
                <a:ea typeface="微软雅黑"/>
              </a:rPr>
              <a:t>互联网的流量，效益试呈明显的递减，成本会变得更高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9"/>
          <p:cNvSpPr/>
          <p:nvPr/>
        </p:nvSpPr>
        <p:spPr>
          <a:xfrm>
            <a:off x="2228040" y="76320"/>
            <a:ext cx="21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体法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文本框 18"/>
          <p:cNvSpPr/>
          <p:nvPr/>
        </p:nvSpPr>
        <p:spPr>
          <a:xfrm>
            <a:off x="4917240" y="235584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三个法则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效益递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13"/>
          <p:cNvSpPr/>
          <p:nvPr/>
        </p:nvSpPr>
        <p:spPr>
          <a:xfrm>
            <a:off x="1150920" y="3429000"/>
            <a:ext cx="106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互联网的爆品境界：把产品爆到产生垄断的效果，让别人学都不好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文本框 8"/>
          <p:cNvSpPr/>
          <p:nvPr/>
        </p:nvSpPr>
        <p:spPr>
          <a:xfrm>
            <a:off x="1952640" y="4376880"/>
            <a:ext cx="805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6c84"/>
                </a:solidFill>
                <a:latin typeface="微软雅黑"/>
                <a:ea typeface="微软雅黑"/>
              </a:rPr>
              <a:t>爆品战略的本质就是一年一款产品可以干到</a:t>
            </a:r>
            <a:r>
              <a:rPr b="1" lang="en-US" sz="4400" spc="-1" strike="noStrike">
                <a:solidFill>
                  <a:srgbClr val="c06c84"/>
                </a:solidFill>
                <a:latin typeface="微软雅黑"/>
                <a:ea typeface="微软雅黑"/>
              </a:rPr>
              <a:t>10</a:t>
            </a:r>
            <a:r>
              <a:rPr b="1" lang="zh-CN" sz="4400" spc="-1" strike="noStrike">
                <a:solidFill>
                  <a:srgbClr val="c06c84"/>
                </a:solidFill>
                <a:latin typeface="微软雅黑"/>
                <a:ea typeface="微软雅黑"/>
              </a:rPr>
              <a:t>个亿的方法论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战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组 25"/>
          <p:cNvGrpSpPr/>
          <p:nvPr/>
        </p:nvGrpSpPr>
        <p:grpSpPr>
          <a:xfrm>
            <a:off x="4172040" y="1504800"/>
            <a:ext cx="3848040" cy="3848400"/>
            <a:chOff x="4172040" y="1504800"/>
            <a:chExt cx="3848040" cy="3848400"/>
          </a:xfrm>
        </p:grpSpPr>
        <p:sp>
          <p:nvSpPr>
            <p:cNvPr id="798" name="椭圆 11"/>
            <p:cNvSpPr/>
            <p:nvPr/>
          </p:nvSpPr>
          <p:spPr>
            <a:xfrm>
              <a:off x="4172040" y="1504800"/>
              <a:ext cx="3848040" cy="3848400"/>
            </a:xfrm>
            <a:prstGeom prst="ellipse">
              <a:avLst/>
            </a:pr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9" name="图片 15" descr=""/>
            <p:cNvPicPr/>
            <p:nvPr/>
          </p:nvPicPr>
          <p:blipFill>
            <a:blip r:embed="rId1"/>
            <a:stretch/>
          </p:blipFill>
          <p:spPr>
            <a:xfrm>
              <a:off x="5454720" y="2348640"/>
              <a:ext cx="1054440" cy="103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0" name="文本框 22"/>
          <p:cNvSpPr/>
          <p:nvPr/>
        </p:nvSpPr>
        <p:spPr>
          <a:xfrm>
            <a:off x="4724280" y="3705120"/>
            <a:ext cx="28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产品进行颠覆性微创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图片 2" descr="探百村-logo-标志图形-组合1"/>
          <p:cNvPicPr/>
          <p:nvPr/>
        </p:nvPicPr>
        <p:blipFill>
          <a:blip r:embed="rId2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任意多边形 33"/>
          <p:cNvSpPr/>
          <p:nvPr/>
        </p:nvSpPr>
        <p:spPr>
          <a:xfrm flipH="1">
            <a:off x="3822840" y="1944720"/>
            <a:ext cx="4736880" cy="925560"/>
          </a:xfrm>
          <a:custGeom>
            <a:avLst/>
            <a:gdLst/>
            <a:ahLst/>
            <a:rect l="l" t="t" r="r" b="b"/>
            <a:pathLst>
              <a:path w="4736306" h="925514">
                <a:moveTo>
                  <a:pt x="462757" y="0"/>
                </a:moveTo>
                <a:lnTo>
                  <a:pt x="519906" y="5761"/>
                </a:lnTo>
                <a:lnTo>
                  <a:pt x="519906" y="0"/>
                </a:lnTo>
                <a:lnTo>
                  <a:pt x="4736306" y="0"/>
                </a:lnTo>
                <a:lnTo>
                  <a:pt x="4736306" y="925514"/>
                </a:lnTo>
                <a:lnTo>
                  <a:pt x="519906" y="925514"/>
                </a:lnTo>
                <a:lnTo>
                  <a:pt x="519906" y="919753"/>
                </a:lnTo>
                <a:lnTo>
                  <a:pt x="462757" y="925514"/>
                </a:lnTo>
                <a:cubicBezTo>
                  <a:pt x="207183" y="925514"/>
                  <a:pt x="0" y="718331"/>
                  <a:pt x="0" y="462757"/>
                </a:cubicBezTo>
                <a:cubicBezTo>
                  <a:pt x="0" y="207183"/>
                  <a:pt x="207183" y="0"/>
                  <a:pt x="462757" y="0"/>
                </a:cubicBezTo>
                <a:close/>
              </a:path>
            </a:pathLst>
          </a:cu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任意多边形 34"/>
          <p:cNvSpPr/>
          <p:nvPr/>
        </p:nvSpPr>
        <p:spPr>
          <a:xfrm flipH="1">
            <a:off x="3290040" y="2870280"/>
            <a:ext cx="4735800" cy="925560"/>
          </a:xfrm>
          <a:custGeom>
            <a:avLst/>
            <a:gdLst/>
            <a:ahLst/>
            <a:rect l="l" t="t" r="r" b="b"/>
            <a:pathLst>
              <a:path w="4736306" h="925514">
                <a:moveTo>
                  <a:pt x="462757" y="0"/>
                </a:moveTo>
                <a:lnTo>
                  <a:pt x="519906" y="5761"/>
                </a:lnTo>
                <a:lnTo>
                  <a:pt x="519906" y="0"/>
                </a:lnTo>
                <a:lnTo>
                  <a:pt x="4736306" y="0"/>
                </a:lnTo>
                <a:lnTo>
                  <a:pt x="4736306" y="925514"/>
                </a:lnTo>
                <a:lnTo>
                  <a:pt x="519906" y="925514"/>
                </a:lnTo>
                <a:lnTo>
                  <a:pt x="519906" y="919753"/>
                </a:lnTo>
                <a:lnTo>
                  <a:pt x="462757" y="925514"/>
                </a:lnTo>
                <a:cubicBezTo>
                  <a:pt x="207183" y="925514"/>
                  <a:pt x="0" y="718331"/>
                  <a:pt x="0" y="462757"/>
                </a:cubicBezTo>
                <a:cubicBezTo>
                  <a:pt x="0" y="207183"/>
                  <a:pt x="207183" y="0"/>
                  <a:pt x="462757" y="0"/>
                </a:cubicBezTo>
                <a:close/>
              </a:path>
            </a:pathLst>
          </a:cu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任意多边形 35"/>
          <p:cNvSpPr/>
          <p:nvPr/>
        </p:nvSpPr>
        <p:spPr>
          <a:xfrm flipH="1">
            <a:off x="2757600" y="3782880"/>
            <a:ext cx="4736880" cy="925560"/>
          </a:xfrm>
          <a:custGeom>
            <a:avLst/>
            <a:gdLst/>
            <a:ahLst/>
            <a:rect l="l" t="t" r="r" b="b"/>
            <a:pathLst>
              <a:path w="4736306" h="925514">
                <a:moveTo>
                  <a:pt x="462757" y="0"/>
                </a:moveTo>
                <a:lnTo>
                  <a:pt x="519906" y="5761"/>
                </a:lnTo>
                <a:lnTo>
                  <a:pt x="519906" y="0"/>
                </a:lnTo>
                <a:lnTo>
                  <a:pt x="4736306" y="0"/>
                </a:lnTo>
                <a:lnTo>
                  <a:pt x="4736306" y="925514"/>
                </a:lnTo>
                <a:lnTo>
                  <a:pt x="519906" y="925514"/>
                </a:lnTo>
                <a:lnTo>
                  <a:pt x="519906" y="919753"/>
                </a:lnTo>
                <a:lnTo>
                  <a:pt x="462757" y="925514"/>
                </a:lnTo>
                <a:cubicBezTo>
                  <a:pt x="207183" y="925514"/>
                  <a:pt x="0" y="718331"/>
                  <a:pt x="0" y="462757"/>
                </a:cubicBezTo>
                <a:cubicBezTo>
                  <a:pt x="0" y="207183"/>
                  <a:pt x="207183" y="0"/>
                  <a:pt x="462757" y="0"/>
                </a:cubicBezTo>
                <a:close/>
              </a:path>
            </a:pathLst>
          </a:cu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任意多边形 39"/>
          <p:cNvSpPr/>
          <p:nvPr/>
        </p:nvSpPr>
        <p:spPr>
          <a:xfrm flipH="1">
            <a:off x="-720" y="1944720"/>
            <a:ext cx="2135160" cy="925560"/>
          </a:xfrm>
          <a:custGeom>
            <a:avLst/>
            <a:gdLst/>
            <a:ahLst/>
            <a:rect l="l" t="t" r="r" b="b"/>
            <a:pathLst>
              <a:path w="3720214" h="925514">
                <a:moveTo>
                  <a:pt x="0" y="0"/>
                </a:moveTo>
                <a:lnTo>
                  <a:pt x="3720214" y="0"/>
                </a:lnTo>
                <a:lnTo>
                  <a:pt x="3720214" y="925514"/>
                </a:lnTo>
                <a:lnTo>
                  <a:pt x="0" y="925514"/>
                </a:lnTo>
                <a:lnTo>
                  <a:pt x="0" y="0"/>
                </a:lnTo>
                <a:close/>
              </a:path>
            </a:pathLst>
          </a:cu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任意多边形 40"/>
          <p:cNvSpPr/>
          <p:nvPr/>
        </p:nvSpPr>
        <p:spPr>
          <a:xfrm flipH="1">
            <a:off x="-720" y="2860560"/>
            <a:ext cx="1638360" cy="925560"/>
          </a:xfrm>
          <a:custGeom>
            <a:avLst/>
            <a:gdLst/>
            <a:ahLst/>
            <a:rect l="l" t="t" r="r" b="b"/>
            <a:pathLst>
              <a:path w="3720214" h="925514">
                <a:moveTo>
                  <a:pt x="0" y="0"/>
                </a:moveTo>
                <a:lnTo>
                  <a:pt x="3720214" y="0"/>
                </a:lnTo>
                <a:lnTo>
                  <a:pt x="3720214" y="925514"/>
                </a:lnTo>
                <a:lnTo>
                  <a:pt x="0" y="925514"/>
                </a:lnTo>
                <a:lnTo>
                  <a:pt x="0" y="0"/>
                </a:lnTo>
                <a:close/>
              </a:path>
            </a:pathLst>
          </a:cu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任意多边形 41"/>
          <p:cNvSpPr/>
          <p:nvPr/>
        </p:nvSpPr>
        <p:spPr>
          <a:xfrm flipH="1">
            <a:off x="-720" y="3774960"/>
            <a:ext cx="1104840" cy="927360"/>
          </a:xfrm>
          <a:custGeom>
            <a:avLst/>
            <a:gdLst/>
            <a:ahLst/>
            <a:rect l="l" t="t" r="r" b="b"/>
            <a:pathLst>
              <a:path w="3720214" h="925514">
                <a:moveTo>
                  <a:pt x="0" y="0"/>
                </a:moveTo>
                <a:lnTo>
                  <a:pt x="3720214" y="0"/>
                </a:lnTo>
                <a:lnTo>
                  <a:pt x="3720214" y="925514"/>
                </a:lnTo>
                <a:lnTo>
                  <a:pt x="0" y="925514"/>
                </a:lnTo>
                <a:lnTo>
                  <a:pt x="0" y="0"/>
                </a:lnTo>
                <a:close/>
              </a:path>
            </a:pathLst>
          </a:cu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文本框 43"/>
          <p:cNvSpPr/>
          <p:nvPr/>
        </p:nvSpPr>
        <p:spPr>
          <a:xfrm flipH="1">
            <a:off x="4524840" y="203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爆品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文本框 44"/>
          <p:cNvSpPr/>
          <p:nvPr/>
        </p:nvSpPr>
        <p:spPr>
          <a:xfrm flipH="1">
            <a:off x="4086720" y="2978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爆品产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45"/>
          <p:cNvSpPr/>
          <p:nvPr/>
        </p:nvSpPr>
        <p:spPr>
          <a:xfrm flipH="1">
            <a:off x="3597480" y="38750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爆品平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能的入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文本框 47"/>
          <p:cNvSpPr/>
          <p:nvPr/>
        </p:nvSpPr>
        <p:spPr>
          <a:xfrm>
            <a:off x="2599560" y="20239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b193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48"/>
          <p:cNvSpPr/>
          <p:nvPr/>
        </p:nvSpPr>
        <p:spPr>
          <a:xfrm>
            <a:off x="2083680" y="30193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7280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文本框 49"/>
          <p:cNvSpPr/>
          <p:nvPr/>
        </p:nvSpPr>
        <p:spPr>
          <a:xfrm>
            <a:off x="1551960" y="38750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6c84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53" descr=""/>
          <p:cNvPicPr/>
          <p:nvPr/>
        </p:nvPicPr>
        <p:blipFill>
          <a:blip r:embed="rId2"/>
          <a:stretch/>
        </p:blipFill>
        <p:spPr>
          <a:xfrm>
            <a:off x="601560" y="3038400"/>
            <a:ext cx="433440" cy="541440"/>
          </a:xfrm>
          <a:prstGeom prst="rect">
            <a:avLst/>
          </a:prstGeom>
          <a:ln w="0">
            <a:noFill/>
          </a:ln>
        </p:spPr>
      </p:pic>
      <p:pic>
        <p:nvPicPr>
          <p:cNvPr id="819" name="图片 54" descr=""/>
          <p:cNvPicPr/>
          <p:nvPr/>
        </p:nvPicPr>
        <p:blipFill>
          <a:blip r:embed="rId3"/>
          <a:stretch/>
        </p:blipFill>
        <p:spPr>
          <a:xfrm>
            <a:off x="270000" y="3968640"/>
            <a:ext cx="565200" cy="565200"/>
          </a:xfrm>
          <a:prstGeom prst="rect">
            <a:avLst/>
          </a:prstGeom>
          <a:ln w="0">
            <a:noFill/>
          </a:ln>
        </p:spPr>
      </p:pic>
      <p:pic>
        <p:nvPicPr>
          <p:cNvPr id="820" name="图片 55" descr=""/>
          <p:cNvPicPr/>
          <p:nvPr/>
        </p:nvPicPr>
        <p:blipFill>
          <a:blip r:embed="rId4"/>
          <a:stretch/>
        </p:blipFill>
        <p:spPr>
          <a:xfrm>
            <a:off x="731880" y="2147760"/>
            <a:ext cx="460440" cy="460440"/>
          </a:xfrm>
          <a:prstGeom prst="rect">
            <a:avLst/>
          </a:prstGeom>
          <a:ln w="0">
            <a:noFill/>
          </a:ln>
        </p:spPr>
      </p:pic>
      <p:sp>
        <p:nvSpPr>
          <p:cNvPr id="821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战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平行四边形 1"/>
          <p:cNvSpPr/>
          <p:nvPr/>
        </p:nvSpPr>
        <p:spPr>
          <a:xfrm>
            <a:off x="5738760" y="1943280"/>
            <a:ext cx="1095480" cy="2763720"/>
          </a:xfrm>
          <a:prstGeom prst="parallelogram">
            <a:avLst>
              <a:gd name="adj" fmla="val 25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信红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33"/>
          <p:cNvSpPr/>
          <p:nvPr/>
        </p:nvSpPr>
        <p:spPr>
          <a:xfrm>
            <a:off x="7961400" y="2932200"/>
            <a:ext cx="4360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款是一个局部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是一个战略，是一个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图片 2" descr="探百村-logo-标志图形-组合1"/>
          <p:cNvPicPr/>
          <p:nvPr/>
        </p:nvPicPr>
        <p:blipFill>
          <a:blip r:embed="rId5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战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椭圆 4"/>
          <p:cNvSpPr/>
          <p:nvPr/>
        </p:nvSpPr>
        <p:spPr>
          <a:xfrm>
            <a:off x="3089160" y="1055520"/>
            <a:ext cx="5816880" cy="5454720"/>
          </a:xfrm>
          <a:prstGeom prst="ellipse">
            <a:avLst/>
          </a:prstGeom>
          <a:noFill/>
          <a:ln w="442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文本框 26"/>
          <p:cNvSpPr/>
          <p:nvPr/>
        </p:nvSpPr>
        <p:spPr>
          <a:xfrm>
            <a:off x="5763600" y="3429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乐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组 6"/>
          <p:cNvGrpSpPr/>
          <p:nvPr/>
        </p:nvGrpSpPr>
        <p:grpSpPr>
          <a:xfrm>
            <a:off x="2346480" y="1216080"/>
            <a:ext cx="2216160" cy="2216160"/>
            <a:chOff x="2346480" y="1216080"/>
            <a:chExt cx="2216160" cy="2216160"/>
          </a:xfrm>
        </p:grpSpPr>
        <p:sp>
          <p:nvSpPr>
            <p:cNvPr id="833" name="椭圆 2"/>
            <p:cNvSpPr/>
            <p:nvPr/>
          </p:nvSpPr>
          <p:spPr>
            <a:xfrm>
              <a:off x="2346480" y="1216080"/>
              <a:ext cx="2216160" cy="22161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文本框 3"/>
            <p:cNvSpPr/>
            <p:nvPr/>
          </p:nvSpPr>
          <p:spPr>
            <a:xfrm>
              <a:off x="2958120" y="2109960"/>
              <a:ext cx="101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优酷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&amp;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土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视频流量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 5"/>
          <p:cNvGrpSpPr/>
          <p:nvPr/>
        </p:nvGrpSpPr>
        <p:grpSpPr>
          <a:xfrm>
            <a:off x="7454880" y="1090440"/>
            <a:ext cx="2252520" cy="2252880"/>
            <a:chOff x="7454880" y="1090440"/>
            <a:chExt cx="2252520" cy="2252880"/>
          </a:xfrm>
        </p:grpSpPr>
        <p:sp>
          <p:nvSpPr>
            <p:cNvPr id="836" name="椭圆 28"/>
            <p:cNvSpPr/>
            <p:nvPr/>
          </p:nvSpPr>
          <p:spPr>
            <a:xfrm>
              <a:off x="7454880" y="1090440"/>
              <a:ext cx="2252520" cy="2252880"/>
            </a:xfrm>
            <a:prstGeom prst="ellipse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文本框 30"/>
            <p:cNvSpPr/>
            <p:nvPr/>
          </p:nvSpPr>
          <p:spPr>
            <a:xfrm>
              <a:off x="8247960" y="19868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乐视电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组 31"/>
          <p:cNvGrpSpPr/>
          <p:nvPr/>
        </p:nvGrpSpPr>
        <p:grpSpPr>
          <a:xfrm>
            <a:off x="8004240" y="4564080"/>
            <a:ext cx="1990800" cy="1990800"/>
            <a:chOff x="8004240" y="4564080"/>
            <a:chExt cx="1990800" cy="1990800"/>
          </a:xfrm>
        </p:grpSpPr>
        <p:sp>
          <p:nvSpPr>
            <p:cNvPr id="839" name="椭圆 32"/>
            <p:cNvSpPr/>
            <p:nvPr/>
          </p:nvSpPr>
          <p:spPr>
            <a:xfrm>
              <a:off x="8004240" y="4564080"/>
              <a:ext cx="1990800" cy="1990800"/>
            </a:xfrm>
            <a:prstGeom prst="ellipse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文本框 33"/>
            <p:cNvSpPr/>
            <p:nvPr/>
          </p:nvSpPr>
          <p:spPr>
            <a:xfrm>
              <a:off x="8663040" y="53564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乐视手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组 34"/>
          <p:cNvGrpSpPr/>
          <p:nvPr/>
        </p:nvGrpSpPr>
        <p:grpSpPr>
          <a:xfrm>
            <a:off x="2104920" y="4533840"/>
            <a:ext cx="2051280" cy="2051280"/>
            <a:chOff x="2104920" y="4533840"/>
            <a:chExt cx="2051280" cy="2051280"/>
          </a:xfrm>
        </p:grpSpPr>
        <p:sp>
          <p:nvSpPr>
            <p:cNvPr id="842" name="椭圆 35"/>
            <p:cNvSpPr/>
            <p:nvPr/>
          </p:nvSpPr>
          <p:spPr>
            <a:xfrm>
              <a:off x="2104920" y="4533840"/>
              <a:ext cx="2051280" cy="2051280"/>
            </a:xfrm>
            <a:prstGeom prst="ellipse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文本框 36"/>
            <p:cNvSpPr/>
            <p:nvPr/>
          </p:nvSpPr>
          <p:spPr>
            <a:xfrm>
              <a:off x="2794680" y="5350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乐视汽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4" name="图片 1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文本框 44"/>
          <p:cNvSpPr/>
          <p:nvPr/>
        </p:nvSpPr>
        <p:spPr>
          <a:xfrm>
            <a:off x="5027040" y="4730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6c84"/>
                </a:solidFill>
                <a:latin typeface="微软雅黑"/>
                <a:ea typeface="微软雅黑"/>
              </a:rPr>
              <a:t>从生态链着手，跨界等于链接，深纬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组合 23"/>
          <p:cNvGrpSpPr/>
          <p:nvPr/>
        </p:nvGrpSpPr>
        <p:grpSpPr>
          <a:xfrm>
            <a:off x="2749680" y="4797360"/>
            <a:ext cx="1057320" cy="743040"/>
            <a:chOff x="2749680" y="4797360"/>
            <a:chExt cx="1057320" cy="743040"/>
          </a:xfrm>
        </p:grpSpPr>
        <p:sp>
          <p:nvSpPr>
            <p:cNvPr id="851" name="矩形 24"/>
            <p:cNvSpPr/>
            <p:nvPr/>
          </p:nvSpPr>
          <p:spPr>
            <a:xfrm>
              <a:off x="2749680" y="4797360"/>
              <a:ext cx="380160" cy="730800"/>
            </a:xfrm>
            <a:prstGeom prst="rect">
              <a:avLst/>
            </a:prstGeom>
            <a:solidFill>
              <a:srgbClr val="6c5b7b"/>
            </a:solidFill>
            <a:ln w="12600">
              <a:solidFill>
                <a:srgbClr val="6c5b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矩形 25"/>
            <p:cNvSpPr/>
            <p:nvPr/>
          </p:nvSpPr>
          <p:spPr>
            <a:xfrm>
              <a:off x="3705840" y="4797360"/>
              <a:ext cx="101160" cy="743040"/>
            </a:xfrm>
            <a:prstGeom prst="rect">
              <a:avLst/>
            </a:pr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矩形 26"/>
            <p:cNvSpPr/>
            <p:nvPr/>
          </p:nvSpPr>
          <p:spPr>
            <a:xfrm>
              <a:off x="3500640" y="4797360"/>
              <a:ext cx="177480" cy="743040"/>
            </a:xfrm>
            <a:prstGeom prst="rect">
              <a:avLst/>
            </a:pr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矩形 27"/>
            <p:cNvSpPr/>
            <p:nvPr/>
          </p:nvSpPr>
          <p:spPr>
            <a:xfrm>
              <a:off x="3174120" y="4797360"/>
              <a:ext cx="296640" cy="743040"/>
            </a:xfrm>
            <a:prstGeom prst="rect">
              <a:avLst/>
            </a:pr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组合 28"/>
          <p:cNvGrpSpPr/>
          <p:nvPr/>
        </p:nvGrpSpPr>
        <p:grpSpPr>
          <a:xfrm>
            <a:off x="9019800" y="4797360"/>
            <a:ext cx="1038600" cy="743040"/>
            <a:chOff x="9019800" y="4797360"/>
            <a:chExt cx="1038600" cy="743040"/>
          </a:xfrm>
        </p:grpSpPr>
        <p:sp>
          <p:nvSpPr>
            <p:cNvPr id="856" name="矩形 29"/>
            <p:cNvSpPr/>
            <p:nvPr/>
          </p:nvSpPr>
          <p:spPr>
            <a:xfrm flipH="1">
              <a:off x="9678960" y="4797360"/>
              <a:ext cx="379440" cy="730800"/>
            </a:xfrm>
            <a:prstGeom prst="rect">
              <a:avLst/>
            </a:prstGeom>
            <a:solidFill>
              <a:srgbClr val="6c5b7b"/>
            </a:solidFill>
            <a:ln w="12600">
              <a:solidFill>
                <a:srgbClr val="6c5b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矩形 30"/>
            <p:cNvSpPr/>
            <p:nvPr/>
          </p:nvSpPr>
          <p:spPr>
            <a:xfrm flipH="1">
              <a:off x="9019440" y="4797360"/>
              <a:ext cx="101160" cy="743040"/>
            </a:xfrm>
            <a:prstGeom prst="rect">
              <a:avLst/>
            </a:pr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矩形 31"/>
            <p:cNvSpPr/>
            <p:nvPr/>
          </p:nvSpPr>
          <p:spPr>
            <a:xfrm flipH="1">
              <a:off x="9148680" y="4797360"/>
              <a:ext cx="177120" cy="743040"/>
            </a:xfrm>
            <a:prstGeom prst="rect">
              <a:avLst/>
            </a:pr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矩形 32"/>
            <p:cNvSpPr/>
            <p:nvPr/>
          </p:nvSpPr>
          <p:spPr>
            <a:xfrm flipH="1">
              <a:off x="9355320" y="4797360"/>
              <a:ext cx="295920" cy="743040"/>
            </a:xfrm>
            <a:prstGeom prst="rect">
              <a:avLst/>
            </a:pr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战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虚尾箭头 3"/>
          <p:cNvSpPr/>
          <p:nvPr/>
        </p:nvSpPr>
        <p:spPr>
          <a:xfrm>
            <a:off x="1995480" y="3213000"/>
            <a:ext cx="8874000" cy="941400"/>
          </a:xfrm>
          <a:custGeom>
            <a:avLst/>
            <a:gdLst/>
            <a:ahLst/>
            <a:rect l="l" t="t" r="r" b="b"/>
            <a:pathLst>
              <a:path w="8874125" h="941387">
                <a:moveTo>
                  <a:pt x="0" y="235346"/>
                </a:moveTo>
                <a:lnTo>
                  <a:pt x="29418" y="235346"/>
                </a:lnTo>
                <a:lnTo>
                  <a:pt x="29418" y="706040"/>
                </a:lnTo>
                <a:lnTo>
                  <a:pt x="0" y="706040"/>
                </a:lnTo>
                <a:close/>
                <a:moveTo>
                  <a:pt x="58836" y="235346"/>
                </a:moveTo>
                <a:lnTo>
                  <a:pt x="117673" y="235346"/>
                </a:lnTo>
                <a:lnTo>
                  <a:pt x="117673" y="706040"/>
                </a:lnTo>
                <a:lnTo>
                  <a:pt x="58836" y="706040"/>
                </a:lnTo>
                <a:close/>
                <a:moveTo>
                  <a:pt x="147091" y="235346"/>
                </a:moveTo>
                <a:lnTo>
                  <a:pt x="8403431" y="235346"/>
                </a:lnTo>
                <a:lnTo>
                  <a:pt x="8403431" y="0"/>
                </a:lnTo>
                <a:lnTo>
                  <a:pt x="8874125" y="470693"/>
                </a:lnTo>
                <a:lnTo>
                  <a:pt x="8403431" y="941387"/>
                </a:lnTo>
                <a:lnTo>
                  <a:pt x="8403431" y="706040"/>
                </a:lnTo>
                <a:lnTo>
                  <a:pt x="147091" y="706040"/>
                </a:lnTo>
                <a:close/>
              </a:path>
            </a:pathLst>
          </a:cu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文本框 4"/>
          <p:cNvSpPr/>
          <p:nvPr/>
        </p:nvSpPr>
        <p:spPr>
          <a:xfrm>
            <a:off x="3667320" y="2782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传统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厂、制造、能配比、渠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文本框 27"/>
          <p:cNvSpPr/>
          <p:nvPr/>
        </p:nvSpPr>
        <p:spPr>
          <a:xfrm>
            <a:off x="6987600" y="278280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小米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一年一款、线上销售，羊毛出在猪身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文本框 44"/>
          <p:cNvSpPr/>
          <p:nvPr/>
        </p:nvSpPr>
        <p:spPr>
          <a:xfrm>
            <a:off x="4949640" y="525132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6c84"/>
                </a:solidFill>
                <a:latin typeface="微软雅黑"/>
                <a:ea typeface="微软雅黑"/>
              </a:rPr>
              <a:t>高频打低频是铁律，低频行业如何找爆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图片 2" descr="探百村-logo-标志图形-组合1"/>
          <p:cNvPicPr/>
          <p:nvPr/>
        </p:nvPicPr>
        <p:blipFill>
          <a:blip r:embed="rId2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椭圆 10"/>
          <p:cNvSpPr/>
          <p:nvPr/>
        </p:nvSpPr>
        <p:spPr>
          <a:xfrm>
            <a:off x="4780080" y="1411200"/>
            <a:ext cx="2631960" cy="263232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图片 17" descr=""/>
          <p:cNvPicPr/>
          <p:nvPr/>
        </p:nvPicPr>
        <p:blipFill>
          <a:blip r:embed="rId1"/>
          <a:stretch/>
        </p:blipFill>
        <p:spPr>
          <a:xfrm>
            <a:off x="5678640" y="1798560"/>
            <a:ext cx="834840" cy="601920"/>
          </a:xfrm>
          <a:prstGeom prst="rect">
            <a:avLst/>
          </a:prstGeom>
          <a:ln w="0">
            <a:noFill/>
          </a:ln>
        </p:spPr>
      </p:pic>
      <p:sp>
        <p:nvSpPr>
          <p:cNvPr id="872" name="文本框 22"/>
          <p:cNvSpPr/>
          <p:nvPr/>
        </p:nvSpPr>
        <p:spPr>
          <a:xfrm>
            <a:off x="4967280" y="2513160"/>
            <a:ext cx="225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频跟低频背后是跟用户的强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战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文本框 1"/>
          <p:cNvSpPr/>
          <p:nvPr/>
        </p:nvSpPr>
        <p:spPr>
          <a:xfrm>
            <a:off x="3534840" y="4322880"/>
            <a:ext cx="57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到跟用户的联系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传统企业的微信公众号，提升用户的高频入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图片 2" descr="探百村-logo-标志图形-组合1"/>
          <p:cNvPicPr/>
          <p:nvPr/>
        </p:nvPicPr>
        <p:blipFill>
          <a:blip r:embed="rId2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椭圆 15"/>
          <p:cNvSpPr/>
          <p:nvPr/>
        </p:nvSpPr>
        <p:spPr>
          <a:xfrm>
            <a:off x="2695680" y="4662360"/>
            <a:ext cx="799920" cy="79848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椭圆 7"/>
          <p:cNvSpPr/>
          <p:nvPr/>
        </p:nvSpPr>
        <p:spPr>
          <a:xfrm>
            <a:off x="6534000" y="3619440"/>
            <a:ext cx="1702080" cy="1701720"/>
          </a:xfrm>
          <a:prstGeom prst="ellipse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椭圆 8"/>
          <p:cNvSpPr/>
          <p:nvPr/>
        </p:nvSpPr>
        <p:spPr>
          <a:xfrm>
            <a:off x="3797280" y="1397160"/>
            <a:ext cx="3543480" cy="3543120"/>
          </a:xfrm>
          <a:prstGeom prst="ellipse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椭圆 1"/>
          <p:cNvSpPr/>
          <p:nvPr/>
        </p:nvSpPr>
        <p:spPr>
          <a:xfrm>
            <a:off x="6534000" y="812880"/>
            <a:ext cx="2590920" cy="259056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椭圆 9"/>
          <p:cNvSpPr/>
          <p:nvPr/>
        </p:nvSpPr>
        <p:spPr>
          <a:xfrm>
            <a:off x="2954160" y="3390840"/>
            <a:ext cx="1930680" cy="193032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椭圆 10"/>
          <p:cNvSpPr/>
          <p:nvPr/>
        </p:nvSpPr>
        <p:spPr>
          <a:xfrm>
            <a:off x="1914480" y="1397160"/>
            <a:ext cx="514440" cy="51408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椭圆 11"/>
          <p:cNvSpPr/>
          <p:nvPr/>
        </p:nvSpPr>
        <p:spPr>
          <a:xfrm>
            <a:off x="5280120" y="5842080"/>
            <a:ext cx="288720" cy="288720"/>
          </a:xfrm>
          <a:prstGeom prst="ellipse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椭圆 12"/>
          <p:cNvSpPr/>
          <p:nvPr/>
        </p:nvSpPr>
        <p:spPr>
          <a:xfrm>
            <a:off x="9815400" y="2139840"/>
            <a:ext cx="524160" cy="52416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椭圆 13"/>
          <p:cNvSpPr/>
          <p:nvPr/>
        </p:nvSpPr>
        <p:spPr>
          <a:xfrm>
            <a:off x="5045040" y="412920"/>
            <a:ext cx="798480" cy="79992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椭圆 14"/>
          <p:cNvSpPr/>
          <p:nvPr/>
        </p:nvSpPr>
        <p:spPr>
          <a:xfrm>
            <a:off x="9763200" y="4819680"/>
            <a:ext cx="244440" cy="243000"/>
          </a:xfrm>
          <a:prstGeom prst="ellipse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文本框 2"/>
          <p:cNvSpPr/>
          <p:nvPr/>
        </p:nvSpPr>
        <p:spPr>
          <a:xfrm>
            <a:off x="4838760" y="1384200"/>
            <a:ext cx="1625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方正姚体"/>
                <a:ea typeface="方正姚体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17"/>
          <p:cNvSpPr/>
          <p:nvPr/>
        </p:nvSpPr>
        <p:spPr>
          <a:xfrm>
            <a:off x="7423200" y="1846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图片 1" descr="探百村-logo-标志图形"/>
          <p:cNvPicPr/>
          <p:nvPr/>
        </p:nvPicPr>
        <p:blipFill>
          <a:blip r:embed="rId2"/>
          <a:stretch/>
        </p:blipFill>
        <p:spPr>
          <a:xfrm>
            <a:off x="415800" y="306360"/>
            <a:ext cx="190836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文本框 11"/>
          <p:cNvSpPr/>
          <p:nvPr/>
        </p:nvSpPr>
        <p:spPr>
          <a:xfrm>
            <a:off x="5422320" y="3084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是一切产品的基础和核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文本框 2"/>
          <p:cNvSpPr/>
          <p:nvPr/>
        </p:nvSpPr>
        <p:spPr>
          <a:xfrm>
            <a:off x="5472720" y="310032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做爆品必须遵循的第一公里：</a:t>
            </a:r>
            <a:r>
              <a:rPr b="1" lang="zh-CN" sz="3600" spc="-1" strike="noStrike">
                <a:solidFill>
                  <a:srgbClr val="c06c84"/>
                </a:solidFill>
                <a:latin typeface="微软雅黑"/>
                <a:ea typeface="微软雅黑"/>
              </a:rPr>
              <a:t>找痛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文本框 12"/>
          <p:cNvSpPr/>
          <p:nvPr/>
        </p:nvSpPr>
        <p:spPr>
          <a:xfrm>
            <a:off x="3070800" y="4292640"/>
            <a:ext cx="649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痛点：用户最痛的需求点，是用户最想解决的需求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7" name="图片 1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out">
                                      <p:cBhvr additive="repl">
                                        <p:cTn id="38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等腰三角形 12"/>
          <p:cNvSpPr/>
          <p:nvPr/>
        </p:nvSpPr>
        <p:spPr>
          <a:xfrm rot="5400000">
            <a:off x="3550680" y="2168280"/>
            <a:ext cx="2108160" cy="1816200"/>
          </a:xfrm>
          <a:prstGeom prst="triangle">
            <a:avLst>
              <a:gd name="adj" fmla="val 50000"/>
            </a:avLst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等腰三角形 14"/>
          <p:cNvSpPr/>
          <p:nvPr/>
        </p:nvSpPr>
        <p:spPr>
          <a:xfrm rot="5400000">
            <a:off x="7576560" y="2166840"/>
            <a:ext cx="2108160" cy="1816200"/>
          </a:xfrm>
          <a:prstGeom prst="triangle">
            <a:avLst>
              <a:gd name="adj" fmla="val 50000"/>
            </a:avLst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图片 16" descr=""/>
          <p:cNvPicPr/>
          <p:nvPr/>
        </p:nvPicPr>
        <p:blipFill>
          <a:blip r:embed="rId2"/>
          <a:stretch/>
        </p:blipFill>
        <p:spPr>
          <a:xfrm>
            <a:off x="8062920" y="2759040"/>
            <a:ext cx="569880" cy="541440"/>
          </a:xfrm>
          <a:prstGeom prst="rect">
            <a:avLst/>
          </a:prstGeom>
          <a:ln w="0">
            <a:noFill/>
          </a:ln>
        </p:spPr>
      </p:pic>
      <p:pic>
        <p:nvPicPr>
          <p:cNvPr id="905" name="图片 19" descr=""/>
          <p:cNvPicPr/>
          <p:nvPr/>
        </p:nvPicPr>
        <p:blipFill>
          <a:blip r:embed="rId3"/>
          <a:stretch/>
        </p:blipFill>
        <p:spPr>
          <a:xfrm>
            <a:off x="3989520" y="2774880"/>
            <a:ext cx="574560" cy="574920"/>
          </a:xfrm>
          <a:prstGeom prst="rect">
            <a:avLst/>
          </a:prstGeom>
          <a:ln w="0">
            <a:noFill/>
          </a:ln>
        </p:spPr>
      </p:pic>
      <p:sp>
        <p:nvSpPr>
          <p:cNvPr id="906" name="文本框 21"/>
          <p:cNvSpPr/>
          <p:nvPr/>
        </p:nvSpPr>
        <p:spPr>
          <a:xfrm flipH="1">
            <a:off x="7939800" y="433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67280"/>
                </a:solidFill>
                <a:latin typeface="微软雅黑"/>
                <a:ea typeface="微软雅黑"/>
              </a:rPr>
              <a:t>找一级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文本框 23"/>
          <p:cNvSpPr/>
          <p:nvPr/>
        </p:nvSpPr>
        <p:spPr>
          <a:xfrm flipH="1">
            <a:off x="3579840" y="4338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5b7b"/>
                </a:solidFill>
                <a:latin typeface="微软雅黑"/>
                <a:ea typeface="微软雅黑"/>
              </a:rPr>
              <a:t>找风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文本框 16"/>
          <p:cNvSpPr/>
          <p:nvPr/>
        </p:nvSpPr>
        <p:spPr>
          <a:xfrm>
            <a:off x="4713840" y="11923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两大核心法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图片 2" descr="探百村-logo-标志图形-组合1"/>
          <p:cNvPicPr/>
          <p:nvPr/>
        </p:nvPicPr>
        <p:blipFill>
          <a:blip r:embed="rId4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椭圆 15"/>
          <p:cNvSpPr/>
          <p:nvPr/>
        </p:nvSpPr>
        <p:spPr>
          <a:xfrm>
            <a:off x="2695680" y="4662360"/>
            <a:ext cx="799920" cy="79848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椭圆 7"/>
          <p:cNvSpPr/>
          <p:nvPr/>
        </p:nvSpPr>
        <p:spPr>
          <a:xfrm>
            <a:off x="6534000" y="3619440"/>
            <a:ext cx="1702080" cy="1701720"/>
          </a:xfrm>
          <a:prstGeom prst="ellipse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椭圆 8"/>
          <p:cNvSpPr/>
          <p:nvPr/>
        </p:nvSpPr>
        <p:spPr>
          <a:xfrm>
            <a:off x="3797280" y="1397160"/>
            <a:ext cx="3543480" cy="3543120"/>
          </a:xfrm>
          <a:prstGeom prst="ellipse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椭圆 1"/>
          <p:cNvSpPr/>
          <p:nvPr/>
        </p:nvSpPr>
        <p:spPr>
          <a:xfrm>
            <a:off x="6534000" y="812880"/>
            <a:ext cx="2590920" cy="259056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9"/>
          <p:cNvSpPr/>
          <p:nvPr/>
        </p:nvSpPr>
        <p:spPr>
          <a:xfrm>
            <a:off x="2954160" y="3390840"/>
            <a:ext cx="1930680" cy="193032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椭圆 10"/>
          <p:cNvSpPr/>
          <p:nvPr/>
        </p:nvSpPr>
        <p:spPr>
          <a:xfrm>
            <a:off x="1914480" y="1397160"/>
            <a:ext cx="514440" cy="51408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椭圆 11"/>
          <p:cNvSpPr/>
          <p:nvPr/>
        </p:nvSpPr>
        <p:spPr>
          <a:xfrm>
            <a:off x="5280120" y="5842080"/>
            <a:ext cx="288720" cy="288720"/>
          </a:xfrm>
          <a:prstGeom prst="ellipse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椭圆 12"/>
          <p:cNvSpPr/>
          <p:nvPr/>
        </p:nvSpPr>
        <p:spPr>
          <a:xfrm>
            <a:off x="9815400" y="2139840"/>
            <a:ext cx="524160" cy="52416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椭圆 13"/>
          <p:cNvSpPr/>
          <p:nvPr/>
        </p:nvSpPr>
        <p:spPr>
          <a:xfrm>
            <a:off x="5045040" y="412920"/>
            <a:ext cx="798480" cy="79992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椭圆 14"/>
          <p:cNvSpPr/>
          <p:nvPr/>
        </p:nvSpPr>
        <p:spPr>
          <a:xfrm>
            <a:off x="9763200" y="4819680"/>
            <a:ext cx="244440" cy="243000"/>
          </a:xfrm>
          <a:prstGeom prst="ellipse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2"/>
          <p:cNvSpPr/>
          <p:nvPr/>
        </p:nvSpPr>
        <p:spPr>
          <a:xfrm>
            <a:off x="4838760" y="1384200"/>
            <a:ext cx="1625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方正姚体"/>
                <a:ea typeface="方正姚体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17"/>
          <p:cNvSpPr/>
          <p:nvPr/>
        </p:nvSpPr>
        <p:spPr>
          <a:xfrm>
            <a:off x="7312320" y="1846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知拓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图片 1" descr="探百村-logo-标志图形"/>
          <p:cNvPicPr/>
          <p:nvPr/>
        </p:nvPicPr>
        <p:blipFill>
          <a:blip r:embed="rId2"/>
          <a:stretch/>
        </p:blipFill>
        <p:spPr>
          <a:xfrm>
            <a:off x="415800" y="306360"/>
            <a:ext cx="190836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文本框 1"/>
          <p:cNvSpPr/>
          <p:nvPr/>
        </p:nvSpPr>
        <p:spPr>
          <a:xfrm>
            <a:off x="1150920" y="1927080"/>
            <a:ext cx="1003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风口猪都能飞起来，其实打造一款爆品，首先就要找到我们的风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们经常讲风口指数，就是你的产品风口指数怎么样。什么叫风口呢？风口怎么找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风口就是国民性痛点。如果你的痛点够大够肥，你就有更多成功的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文本框 1"/>
          <p:cNvSpPr/>
          <p:nvPr/>
        </p:nvSpPr>
        <p:spPr>
          <a:xfrm>
            <a:off x="4024080" y="2930400"/>
            <a:ext cx="37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风口</a:t>
            </a:r>
            <a:r>
              <a:rPr b="1" lang="en-US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=</a:t>
            </a:r>
            <a:r>
              <a:rPr b="1" lang="zh-CN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国民性痛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文本框 2"/>
          <p:cNvSpPr/>
          <p:nvPr/>
        </p:nvSpPr>
        <p:spPr>
          <a:xfrm>
            <a:off x="4325040" y="508320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关键词：三聚氰胺 九阳豆浆机 风口指数直线飙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图片 3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任意多边形 38"/>
          <p:cNvSpPr/>
          <p:nvPr/>
        </p:nvSpPr>
        <p:spPr>
          <a:xfrm flipH="1">
            <a:off x="4738680" y="2006640"/>
            <a:ext cx="387360" cy="1163520"/>
          </a:xfrm>
          <a:custGeom>
            <a:avLst/>
            <a:gdLst/>
            <a:ahLst/>
            <a:rect l="l" t="t" r="r" b="b"/>
            <a:pathLst>
              <a:path w="593997" h="1073886">
                <a:moveTo>
                  <a:pt x="593997" y="0"/>
                </a:moveTo>
                <a:lnTo>
                  <a:pt x="593997" y="766556"/>
                </a:lnTo>
                <a:lnTo>
                  <a:pt x="0" y="1073886"/>
                </a:lnTo>
                <a:lnTo>
                  <a:pt x="0" y="307330"/>
                </a:lnTo>
                <a:lnTo>
                  <a:pt x="593997" y="0"/>
                </a:lnTo>
                <a:close/>
              </a:path>
            </a:pathLst>
          </a:cu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任意多边形 26"/>
          <p:cNvSpPr/>
          <p:nvPr/>
        </p:nvSpPr>
        <p:spPr>
          <a:xfrm>
            <a:off x="4098960" y="2011320"/>
            <a:ext cx="639720" cy="1155600"/>
          </a:xfrm>
          <a:custGeom>
            <a:avLst/>
            <a:gdLst/>
            <a:ahLst/>
            <a:rect l="l" t="t" r="r" b="b"/>
            <a:pathLst>
              <a:path w="593997" h="1073886">
                <a:moveTo>
                  <a:pt x="593997" y="0"/>
                </a:moveTo>
                <a:lnTo>
                  <a:pt x="593997" y="766556"/>
                </a:lnTo>
                <a:lnTo>
                  <a:pt x="0" y="1073886"/>
                </a:lnTo>
                <a:lnTo>
                  <a:pt x="0" y="307330"/>
                </a:lnTo>
                <a:lnTo>
                  <a:pt x="593997" y="0"/>
                </a:lnTo>
                <a:close/>
              </a:path>
            </a:pathLst>
          </a:custGeom>
          <a:solidFill>
            <a:srgbClr val="f343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任意多边形 27"/>
          <p:cNvSpPr/>
          <p:nvPr/>
        </p:nvSpPr>
        <p:spPr>
          <a:xfrm>
            <a:off x="4092480" y="2830680"/>
            <a:ext cx="639720" cy="1155600"/>
          </a:xfrm>
          <a:custGeom>
            <a:avLst/>
            <a:gdLst/>
            <a:ahLst/>
            <a:rect l="l" t="t" r="r" b="b"/>
            <a:pathLst>
              <a:path w="593997" h="1073886">
                <a:moveTo>
                  <a:pt x="593997" y="0"/>
                </a:moveTo>
                <a:lnTo>
                  <a:pt x="593997" y="766556"/>
                </a:lnTo>
                <a:lnTo>
                  <a:pt x="0" y="1073886"/>
                </a:lnTo>
                <a:lnTo>
                  <a:pt x="0" y="307330"/>
                </a:lnTo>
                <a:lnTo>
                  <a:pt x="593997" y="0"/>
                </a:lnTo>
                <a:close/>
              </a:path>
            </a:pathLst>
          </a:custGeom>
          <a:solidFill>
            <a:srgbClr val="ac4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任意多边形 28"/>
          <p:cNvSpPr/>
          <p:nvPr/>
        </p:nvSpPr>
        <p:spPr>
          <a:xfrm>
            <a:off x="4095720" y="3630600"/>
            <a:ext cx="638280" cy="1989000"/>
          </a:xfrm>
          <a:custGeom>
            <a:avLst/>
            <a:gdLst/>
            <a:ahLst/>
            <a:rect l="l" t="t" r="r" b="b"/>
            <a:pathLst>
              <a:path w="593997" h="1848987">
                <a:moveTo>
                  <a:pt x="593997" y="0"/>
                </a:moveTo>
                <a:lnTo>
                  <a:pt x="593997" y="1542975"/>
                </a:lnTo>
                <a:lnTo>
                  <a:pt x="582533" y="1548906"/>
                </a:lnTo>
                <a:lnTo>
                  <a:pt x="582533" y="1547588"/>
                </a:lnTo>
                <a:lnTo>
                  <a:pt x="0" y="1848987"/>
                </a:lnTo>
                <a:lnTo>
                  <a:pt x="0" y="312613"/>
                </a:lnTo>
                <a:lnTo>
                  <a:pt x="582533" y="11214"/>
                </a:lnTo>
                <a:lnTo>
                  <a:pt x="582533" y="5932"/>
                </a:lnTo>
                <a:lnTo>
                  <a:pt x="593997" y="0"/>
                </a:lnTo>
                <a:close/>
              </a:path>
            </a:pathLst>
          </a:custGeom>
          <a:solidFill>
            <a:srgbClr val="4c4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圆角矩形 29"/>
          <p:cNvSpPr/>
          <p:nvPr/>
        </p:nvSpPr>
        <p:spPr>
          <a:xfrm>
            <a:off x="1708200" y="1546200"/>
            <a:ext cx="2514600" cy="460692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606920"/>
              <a:gd name="textAreaBottom" fmla="*/ 4484160 h 4606920"/>
            </a:gdLst>
            <a:ahLst/>
            <a:rect l="textAreaLeft" t="textAreaTop" r="textAreaRight" b="textAreaBottom"/>
            <a:pathLst>
              <a:path w="21600" h="39570">
                <a:moveTo>
                  <a:pt x="3600" y="0"/>
                </a:moveTo>
                <a:arcTo wR="3600" hR="3600" stAng="16200000" swAng="-5400000"/>
                <a:lnTo>
                  <a:pt x="0" y="35970"/>
                </a:lnTo>
                <a:arcTo wR="3600" hR="3600" stAng="10800000" swAng="-5400000"/>
                <a:lnTo>
                  <a:pt x="18000" y="395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矩形 30"/>
          <p:cNvSpPr/>
          <p:nvPr/>
        </p:nvSpPr>
        <p:spPr>
          <a:xfrm>
            <a:off x="1832040" y="2286000"/>
            <a:ext cx="2268360" cy="82872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矩形 31"/>
          <p:cNvSpPr/>
          <p:nvPr/>
        </p:nvSpPr>
        <p:spPr>
          <a:xfrm>
            <a:off x="1832040" y="3114720"/>
            <a:ext cx="2268360" cy="82872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矩形 32"/>
          <p:cNvSpPr/>
          <p:nvPr/>
        </p:nvSpPr>
        <p:spPr>
          <a:xfrm>
            <a:off x="1832040" y="3943440"/>
            <a:ext cx="2268360" cy="163656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圆角矩形 33"/>
          <p:cNvSpPr/>
          <p:nvPr/>
        </p:nvSpPr>
        <p:spPr>
          <a:xfrm>
            <a:off x="2670120" y="1863720"/>
            <a:ext cx="592200" cy="41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文本框 34"/>
          <p:cNvSpPr/>
          <p:nvPr/>
        </p:nvSpPr>
        <p:spPr>
          <a:xfrm>
            <a:off x="2412720" y="2406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统企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文本框 35"/>
          <p:cNvSpPr/>
          <p:nvPr/>
        </p:nvSpPr>
        <p:spPr>
          <a:xfrm>
            <a:off x="2248560" y="37576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互联网时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椭圆 37"/>
          <p:cNvSpPr/>
          <p:nvPr/>
        </p:nvSpPr>
        <p:spPr>
          <a:xfrm>
            <a:off x="2835360" y="5719680"/>
            <a:ext cx="261720" cy="262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任意多边形 39"/>
          <p:cNvSpPr/>
          <p:nvPr/>
        </p:nvSpPr>
        <p:spPr>
          <a:xfrm>
            <a:off x="5126040" y="2009880"/>
            <a:ext cx="639720" cy="1155600"/>
          </a:xfrm>
          <a:custGeom>
            <a:avLst/>
            <a:gdLst/>
            <a:ahLst/>
            <a:rect l="l" t="t" r="r" b="b"/>
            <a:pathLst>
              <a:path w="593997" h="1073886">
                <a:moveTo>
                  <a:pt x="593997" y="0"/>
                </a:moveTo>
                <a:lnTo>
                  <a:pt x="593997" y="766556"/>
                </a:lnTo>
                <a:lnTo>
                  <a:pt x="0" y="1073886"/>
                </a:lnTo>
                <a:lnTo>
                  <a:pt x="0" y="307330"/>
                </a:lnTo>
                <a:lnTo>
                  <a:pt x="593997" y="0"/>
                </a:lnTo>
                <a:close/>
              </a:path>
            </a:pathLst>
          </a:custGeom>
          <a:solidFill>
            <a:srgbClr val="f343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任意多边形 41"/>
          <p:cNvSpPr/>
          <p:nvPr/>
        </p:nvSpPr>
        <p:spPr>
          <a:xfrm>
            <a:off x="5105520" y="2811600"/>
            <a:ext cx="668160" cy="1282680"/>
          </a:xfrm>
          <a:custGeom>
            <a:avLst/>
            <a:gdLst/>
            <a:ahLst/>
            <a:rect l="l" t="t" r="r" b="b"/>
            <a:pathLst>
              <a:path w="593997" h="1073886">
                <a:moveTo>
                  <a:pt x="593997" y="0"/>
                </a:moveTo>
                <a:lnTo>
                  <a:pt x="593997" y="766556"/>
                </a:lnTo>
                <a:lnTo>
                  <a:pt x="0" y="1073886"/>
                </a:lnTo>
                <a:lnTo>
                  <a:pt x="0" y="307330"/>
                </a:lnTo>
                <a:lnTo>
                  <a:pt x="593997" y="0"/>
                </a:lnTo>
                <a:close/>
              </a:path>
            </a:pathLst>
          </a:custGeom>
          <a:solidFill>
            <a:srgbClr val="ac4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任意多边形 42"/>
          <p:cNvSpPr/>
          <p:nvPr/>
        </p:nvSpPr>
        <p:spPr>
          <a:xfrm>
            <a:off x="4730760" y="3629160"/>
            <a:ext cx="393840" cy="2001600"/>
          </a:xfrm>
          <a:custGeom>
            <a:avLst/>
            <a:gdLst/>
            <a:ahLst/>
            <a:rect l="l" t="t" r="r" b="b"/>
            <a:pathLst>
              <a:path w="366467" h="1859919">
                <a:moveTo>
                  <a:pt x="0" y="0"/>
                </a:moveTo>
                <a:lnTo>
                  <a:pt x="6467" y="136"/>
                </a:lnTo>
                <a:lnTo>
                  <a:pt x="6467" y="3765"/>
                </a:lnTo>
                <a:lnTo>
                  <a:pt x="366467" y="312845"/>
                </a:lnTo>
                <a:lnTo>
                  <a:pt x="366467" y="1859919"/>
                </a:lnTo>
                <a:lnTo>
                  <a:pt x="363809" y="1859919"/>
                </a:lnTo>
                <a:lnTo>
                  <a:pt x="7933" y="1554380"/>
                </a:lnTo>
                <a:lnTo>
                  <a:pt x="7933" y="1559036"/>
                </a:lnTo>
                <a:lnTo>
                  <a:pt x="0" y="1552225"/>
                </a:lnTo>
                <a:lnTo>
                  <a:pt x="0" y="0"/>
                </a:lnTo>
                <a:close/>
              </a:path>
            </a:pathLst>
          </a:cu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任意多边形 43"/>
          <p:cNvSpPr/>
          <p:nvPr/>
        </p:nvSpPr>
        <p:spPr>
          <a:xfrm>
            <a:off x="5126040" y="3633840"/>
            <a:ext cx="639720" cy="1989000"/>
          </a:xfrm>
          <a:custGeom>
            <a:avLst/>
            <a:gdLst/>
            <a:ahLst/>
            <a:rect l="l" t="t" r="r" b="b"/>
            <a:pathLst>
              <a:path w="593997" h="1848987">
                <a:moveTo>
                  <a:pt x="593997" y="0"/>
                </a:moveTo>
                <a:lnTo>
                  <a:pt x="593997" y="1542975"/>
                </a:lnTo>
                <a:lnTo>
                  <a:pt x="582533" y="1548906"/>
                </a:lnTo>
                <a:lnTo>
                  <a:pt x="582533" y="1547588"/>
                </a:lnTo>
                <a:lnTo>
                  <a:pt x="0" y="1848987"/>
                </a:lnTo>
                <a:lnTo>
                  <a:pt x="0" y="312613"/>
                </a:lnTo>
                <a:lnTo>
                  <a:pt x="582533" y="11214"/>
                </a:lnTo>
                <a:lnTo>
                  <a:pt x="582533" y="5932"/>
                </a:lnTo>
                <a:lnTo>
                  <a:pt x="593997" y="0"/>
                </a:lnTo>
                <a:close/>
              </a:path>
            </a:pathLst>
          </a:custGeom>
          <a:solidFill>
            <a:srgbClr val="4c4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五边形 44"/>
          <p:cNvSpPr/>
          <p:nvPr/>
        </p:nvSpPr>
        <p:spPr>
          <a:xfrm>
            <a:off x="5765760" y="2006640"/>
            <a:ext cx="4176720" cy="81900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五边形 45"/>
          <p:cNvSpPr/>
          <p:nvPr/>
        </p:nvSpPr>
        <p:spPr>
          <a:xfrm>
            <a:off x="5759280" y="2811600"/>
            <a:ext cx="4821480" cy="836640"/>
          </a:xfrm>
          <a:custGeom>
            <a:avLst/>
            <a:gdLst>
              <a:gd name="textAreaLeft" fmla="*/ 0 w 4821480"/>
              <a:gd name="textAreaRight" fmla="*/ 4821840 w 482148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五边形 46"/>
          <p:cNvSpPr/>
          <p:nvPr/>
        </p:nvSpPr>
        <p:spPr>
          <a:xfrm>
            <a:off x="5751360" y="3648240"/>
            <a:ext cx="5759640" cy="1666800"/>
          </a:xfrm>
          <a:custGeom>
            <a:avLst/>
            <a:gdLst>
              <a:gd name="textAreaLeft" fmla="*/ 0 w 5759640"/>
              <a:gd name="textAreaRight" fmla="*/ 5760000 w 5759640"/>
              <a:gd name="textAreaTop" fmla="*/ 0 h 1666800"/>
              <a:gd name="textAreaBottom" fmla="*/ 1667160 h 166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文本框 47"/>
          <p:cNvSpPr/>
          <p:nvPr/>
        </p:nvSpPr>
        <p:spPr>
          <a:xfrm>
            <a:off x="6349320" y="2043000"/>
            <a:ext cx="124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家政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弊端：不确定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文本框 48"/>
          <p:cNvSpPr/>
          <p:nvPr/>
        </p:nvSpPr>
        <p:spPr>
          <a:xfrm>
            <a:off x="6530760" y="2867040"/>
            <a:ext cx="227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又肥又大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肥代表盈利空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代表需求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任意多边形 40"/>
          <p:cNvSpPr/>
          <p:nvPr/>
        </p:nvSpPr>
        <p:spPr>
          <a:xfrm flipH="1">
            <a:off x="4732200" y="2809800"/>
            <a:ext cx="387360" cy="1162080"/>
          </a:xfrm>
          <a:custGeom>
            <a:avLst/>
            <a:gdLst/>
            <a:ahLst/>
            <a:rect l="l" t="t" r="r" b="b"/>
            <a:pathLst>
              <a:path w="593997" h="1073886">
                <a:moveTo>
                  <a:pt x="593997" y="0"/>
                </a:moveTo>
                <a:lnTo>
                  <a:pt x="593997" y="766556"/>
                </a:lnTo>
                <a:lnTo>
                  <a:pt x="0" y="1073886"/>
                </a:lnTo>
                <a:lnTo>
                  <a:pt x="0" y="307330"/>
                </a:lnTo>
                <a:lnTo>
                  <a:pt x="593997" y="0"/>
                </a:lnTo>
                <a:close/>
              </a:path>
            </a:pathLst>
          </a:cu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文本框 48"/>
          <p:cNvSpPr/>
          <p:nvPr/>
        </p:nvSpPr>
        <p:spPr>
          <a:xfrm>
            <a:off x="6676920" y="384984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频消费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消费频率高   婚嫁红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文本框 48"/>
          <p:cNvSpPr/>
          <p:nvPr/>
        </p:nvSpPr>
        <p:spPr>
          <a:xfrm>
            <a:off x="6792120" y="4483080"/>
            <a:ext cx="294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准化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标准化生产、制造及运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餐饮团购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准打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图片 2" descr="探百村-logo-标志图形-组合1"/>
          <p:cNvPicPr/>
          <p:nvPr/>
        </p:nvPicPr>
        <p:blipFill>
          <a:blip r:embed="rId2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文本框 8"/>
          <p:cNvSpPr/>
          <p:nvPr/>
        </p:nvSpPr>
        <p:spPr>
          <a:xfrm>
            <a:off x="4161240" y="3697200"/>
            <a:ext cx="290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风口找到≠一定成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文本框 9"/>
          <p:cNvSpPr/>
          <p:nvPr/>
        </p:nvSpPr>
        <p:spPr>
          <a:xfrm>
            <a:off x="3516840" y="2403360"/>
            <a:ext cx="419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黏住用户</a:t>
            </a:r>
            <a:r>
              <a:rPr b="1" lang="en-US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=</a:t>
            </a:r>
            <a:r>
              <a:rPr b="1" lang="zh-CN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痛点需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9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组合 71"/>
          <p:cNvGrpSpPr/>
          <p:nvPr/>
        </p:nvGrpSpPr>
        <p:grpSpPr>
          <a:xfrm>
            <a:off x="7800840" y="2566800"/>
            <a:ext cx="1571040" cy="1566360"/>
            <a:chOff x="7800840" y="2566800"/>
            <a:chExt cx="1571040" cy="1566360"/>
          </a:xfrm>
        </p:grpSpPr>
        <p:sp>
          <p:nvSpPr>
            <p:cNvPr id="969" name="任意多边形 18"/>
            <p:cNvSpPr/>
            <p:nvPr/>
          </p:nvSpPr>
          <p:spPr>
            <a:xfrm rot="8100000">
              <a:off x="8588520" y="3393360"/>
              <a:ext cx="801000" cy="281160"/>
            </a:xfrm>
            <a:custGeom>
              <a:avLst/>
              <a:gdLst/>
              <a:ahLst/>
              <a:rect l="l" t="t" r="r" b="b"/>
              <a:pathLst>
                <a:path w="1618735" h="568411">
                  <a:moveTo>
                    <a:pt x="0" y="568411"/>
                  </a:moveTo>
                  <a:lnTo>
                    <a:pt x="0" y="0"/>
                  </a:lnTo>
                  <a:lnTo>
                    <a:pt x="1618735" y="0"/>
                  </a:lnTo>
                  <a:lnTo>
                    <a:pt x="1618735" y="568411"/>
                  </a:lnTo>
                  <a:lnTo>
                    <a:pt x="565788" y="568411"/>
                  </a:lnTo>
                  <a:lnTo>
                    <a:pt x="284205" y="286828"/>
                  </a:lnTo>
                  <a:lnTo>
                    <a:pt x="2622" y="568411"/>
                  </a:lnTo>
                  <a:lnTo>
                    <a:pt x="0" y="568411"/>
                  </a:lnTo>
                  <a:close/>
                </a:path>
              </a:pathLst>
            </a:cu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五边形 19"/>
            <p:cNvSpPr/>
            <p:nvPr/>
          </p:nvSpPr>
          <p:spPr>
            <a:xfrm rot="2700000">
              <a:off x="8352720" y="2853000"/>
              <a:ext cx="926280" cy="281160"/>
            </a:xfrm>
            <a:custGeom>
              <a:avLst/>
              <a:gdLst>
                <a:gd name="textAreaLeft" fmla="*/ 0 w 926280"/>
                <a:gd name="textAreaRight" fmla="*/ 926640 w 9262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五边形 20"/>
            <p:cNvSpPr/>
            <p:nvPr/>
          </p:nvSpPr>
          <p:spPr>
            <a:xfrm flipH="1" rot="2700000">
              <a:off x="8213400" y="3246120"/>
              <a:ext cx="281160" cy="922320"/>
            </a:xfrm>
            <a:custGeom>
              <a:avLst/>
              <a:gdLst>
                <a:gd name="textAreaLeft" fmla="*/ -360 w 281160"/>
                <a:gd name="textAreaRight" fmla="*/ 281160 w 281160"/>
                <a:gd name="textAreaTop" fmla="*/ 0 h 922320"/>
                <a:gd name="textAreaBottom" fmla="*/ 922680 h 9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任意多边形 21"/>
            <p:cNvSpPr/>
            <p:nvPr/>
          </p:nvSpPr>
          <p:spPr>
            <a:xfrm flipH="1" flipV="1" rot="8100000">
              <a:off x="7782840" y="3027960"/>
              <a:ext cx="801000" cy="281160"/>
            </a:xfrm>
            <a:custGeom>
              <a:avLst/>
              <a:gdLst/>
              <a:ahLst/>
              <a:rect l="l" t="t" r="r" b="b"/>
              <a:pathLst>
                <a:path w="1618735" h="568411">
                  <a:moveTo>
                    <a:pt x="0" y="568411"/>
                  </a:moveTo>
                  <a:lnTo>
                    <a:pt x="0" y="0"/>
                  </a:lnTo>
                  <a:lnTo>
                    <a:pt x="1618735" y="0"/>
                  </a:lnTo>
                  <a:lnTo>
                    <a:pt x="1618735" y="568411"/>
                  </a:lnTo>
                  <a:lnTo>
                    <a:pt x="565788" y="568411"/>
                  </a:lnTo>
                  <a:lnTo>
                    <a:pt x="284205" y="286828"/>
                  </a:lnTo>
                  <a:lnTo>
                    <a:pt x="2622" y="568411"/>
                  </a:lnTo>
                  <a:lnTo>
                    <a:pt x="0" y="568411"/>
                  </a:lnTo>
                  <a:close/>
                </a:path>
              </a:pathLst>
            </a:cu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组合 72"/>
          <p:cNvGrpSpPr/>
          <p:nvPr/>
        </p:nvGrpSpPr>
        <p:grpSpPr>
          <a:xfrm>
            <a:off x="10110960" y="3054960"/>
            <a:ext cx="987120" cy="983520"/>
            <a:chOff x="10110960" y="3054960"/>
            <a:chExt cx="987120" cy="983520"/>
          </a:xfrm>
        </p:grpSpPr>
        <p:sp>
          <p:nvSpPr>
            <p:cNvPr id="974" name="任意多边形 30"/>
            <p:cNvSpPr/>
            <p:nvPr/>
          </p:nvSpPr>
          <p:spPr>
            <a:xfrm rot="8100000">
              <a:off x="10605960" y="3574440"/>
              <a:ext cx="503280" cy="176400"/>
            </a:xfrm>
            <a:custGeom>
              <a:avLst/>
              <a:gdLst/>
              <a:ahLst/>
              <a:rect l="l" t="t" r="r" b="b"/>
              <a:pathLst>
                <a:path w="1618735" h="568411">
                  <a:moveTo>
                    <a:pt x="0" y="568411"/>
                  </a:moveTo>
                  <a:lnTo>
                    <a:pt x="0" y="0"/>
                  </a:lnTo>
                  <a:lnTo>
                    <a:pt x="1618735" y="0"/>
                  </a:lnTo>
                  <a:lnTo>
                    <a:pt x="1618735" y="568411"/>
                  </a:lnTo>
                  <a:lnTo>
                    <a:pt x="565788" y="568411"/>
                  </a:lnTo>
                  <a:lnTo>
                    <a:pt x="284205" y="286828"/>
                  </a:lnTo>
                  <a:lnTo>
                    <a:pt x="2622" y="568411"/>
                  </a:lnTo>
                  <a:lnTo>
                    <a:pt x="0" y="568411"/>
                  </a:lnTo>
                  <a:close/>
                </a:path>
              </a:pathLst>
            </a:cu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五边形 31"/>
            <p:cNvSpPr/>
            <p:nvPr/>
          </p:nvSpPr>
          <p:spPr>
            <a:xfrm rot="2700000">
              <a:off x="10457280" y="3234600"/>
              <a:ext cx="581760" cy="17676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五边形 32"/>
            <p:cNvSpPr/>
            <p:nvPr/>
          </p:nvSpPr>
          <p:spPr>
            <a:xfrm flipH="1" rot="2700000">
              <a:off x="10369800" y="3481560"/>
              <a:ext cx="176760" cy="578880"/>
            </a:xfrm>
            <a:custGeom>
              <a:avLst/>
              <a:gdLst>
                <a:gd name="textAreaLeft" fmla="*/ -360 w 176760"/>
                <a:gd name="textAreaRight" fmla="*/ 176760 w 176760"/>
                <a:gd name="textAreaTop" fmla="*/ 0 h 578880"/>
                <a:gd name="textAreaBottom" fmla="*/ 579240 h 57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任意多边形 33"/>
            <p:cNvSpPr/>
            <p:nvPr/>
          </p:nvSpPr>
          <p:spPr>
            <a:xfrm flipH="1" flipV="1" rot="8100000">
              <a:off x="10099440" y="3344760"/>
              <a:ext cx="503640" cy="176400"/>
            </a:xfrm>
            <a:custGeom>
              <a:avLst/>
              <a:gdLst/>
              <a:ahLst/>
              <a:rect l="l" t="t" r="r" b="b"/>
              <a:pathLst>
                <a:path w="1618735" h="568411">
                  <a:moveTo>
                    <a:pt x="0" y="568411"/>
                  </a:moveTo>
                  <a:lnTo>
                    <a:pt x="0" y="0"/>
                  </a:lnTo>
                  <a:lnTo>
                    <a:pt x="1618735" y="0"/>
                  </a:lnTo>
                  <a:lnTo>
                    <a:pt x="1618735" y="568411"/>
                  </a:lnTo>
                  <a:lnTo>
                    <a:pt x="565788" y="568411"/>
                  </a:lnTo>
                  <a:lnTo>
                    <a:pt x="284205" y="286828"/>
                  </a:lnTo>
                  <a:lnTo>
                    <a:pt x="2622" y="568411"/>
                  </a:lnTo>
                  <a:lnTo>
                    <a:pt x="0" y="568411"/>
                  </a:lnTo>
                  <a:close/>
                </a:path>
              </a:pathLst>
            </a:cu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组合 66"/>
          <p:cNvGrpSpPr/>
          <p:nvPr/>
        </p:nvGrpSpPr>
        <p:grpSpPr>
          <a:xfrm>
            <a:off x="1083960" y="1113480"/>
            <a:ext cx="2979000" cy="2965680"/>
            <a:chOff x="1083960" y="1113480"/>
            <a:chExt cx="2979000" cy="2965680"/>
          </a:xfrm>
        </p:grpSpPr>
        <p:sp>
          <p:nvSpPr>
            <p:cNvPr id="979" name="任意多边形 46"/>
            <p:cNvSpPr/>
            <p:nvPr/>
          </p:nvSpPr>
          <p:spPr>
            <a:xfrm rot="8100000">
              <a:off x="2575440" y="2679120"/>
              <a:ext cx="1515960" cy="532080"/>
            </a:xfrm>
            <a:custGeom>
              <a:avLst/>
              <a:gdLst/>
              <a:ahLst/>
              <a:rect l="l" t="t" r="r" b="b"/>
              <a:pathLst>
                <a:path w="1618735" h="568411">
                  <a:moveTo>
                    <a:pt x="0" y="568411"/>
                  </a:moveTo>
                  <a:lnTo>
                    <a:pt x="0" y="0"/>
                  </a:lnTo>
                  <a:lnTo>
                    <a:pt x="1618735" y="0"/>
                  </a:lnTo>
                  <a:lnTo>
                    <a:pt x="1618735" y="568411"/>
                  </a:lnTo>
                  <a:lnTo>
                    <a:pt x="565788" y="568411"/>
                  </a:lnTo>
                  <a:lnTo>
                    <a:pt x="284205" y="286828"/>
                  </a:lnTo>
                  <a:lnTo>
                    <a:pt x="2622" y="568411"/>
                  </a:lnTo>
                  <a:lnTo>
                    <a:pt x="0" y="568411"/>
                  </a:lnTo>
                  <a:close/>
                </a:path>
              </a:pathLst>
            </a:cu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五边形 47"/>
            <p:cNvSpPr/>
            <p:nvPr/>
          </p:nvSpPr>
          <p:spPr>
            <a:xfrm rot="2700000">
              <a:off x="2129040" y="1655280"/>
              <a:ext cx="1753560" cy="532080"/>
            </a:xfrm>
            <a:custGeom>
              <a:avLst/>
              <a:gdLst>
                <a:gd name="textAreaLeft" fmla="*/ 0 w 1753560"/>
                <a:gd name="textAreaRight" fmla="*/ 1753920 w 175356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五边形 48"/>
            <p:cNvSpPr/>
            <p:nvPr/>
          </p:nvSpPr>
          <p:spPr>
            <a:xfrm flipH="1" rot="2700000">
              <a:off x="1864080" y="2400480"/>
              <a:ext cx="532080" cy="1745280"/>
            </a:xfrm>
            <a:custGeom>
              <a:avLst/>
              <a:gdLst>
                <a:gd name="textAreaLeft" fmla="*/ 360 w 532080"/>
                <a:gd name="textAreaRight" fmla="*/ 532800 w 532080"/>
                <a:gd name="textAreaTop" fmla="*/ 0 h 1745280"/>
                <a:gd name="textAreaBottom" fmla="*/ 1745640 h 174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任意多边形 49"/>
            <p:cNvSpPr/>
            <p:nvPr/>
          </p:nvSpPr>
          <p:spPr>
            <a:xfrm flipH="1" flipV="1" rot="8100000">
              <a:off x="1049400" y="1987920"/>
              <a:ext cx="1516320" cy="532080"/>
            </a:xfrm>
            <a:custGeom>
              <a:avLst/>
              <a:gdLst/>
              <a:ahLst/>
              <a:rect l="l" t="t" r="r" b="b"/>
              <a:pathLst>
                <a:path w="1618735" h="568411">
                  <a:moveTo>
                    <a:pt x="0" y="568411"/>
                  </a:moveTo>
                  <a:lnTo>
                    <a:pt x="0" y="0"/>
                  </a:lnTo>
                  <a:lnTo>
                    <a:pt x="1618735" y="0"/>
                  </a:lnTo>
                  <a:lnTo>
                    <a:pt x="1618735" y="568411"/>
                  </a:lnTo>
                  <a:lnTo>
                    <a:pt x="565788" y="568411"/>
                  </a:lnTo>
                  <a:lnTo>
                    <a:pt x="284205" y="286828"/>
                  </a:lnTo>
                  <a:lnTo>
                    <a:pt x="2622" y="568411"/>
                  </a:lnTo>
                  <a:lnTo>
                    <a:pt x="0" y="568411"/>
                  </a:lnTo>
                  <a:close/>
                </a:path>
              </a:pathLst>
            </a:cu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任意多边形 42"/>
            <p:cNvSpPr/>
            <p:nvPr/>
          </p:nvSpPr>
          <p:spPr>
            <a:xfrm rot="8100000">
              <a:off x="2580840" y="2679840"/>
              <a:ext cx="1515960" cy="532080"/>
            </a:xfrm>
            <a:custGeom>
              <a:avLst/>
              <a:gdLst/>
              <a:ahLst/>
              <a:rect l="l" t="t" r="r" b="b"/>
              <a:pathLst>
                <a:path w="1618735" h="568411">
                  <a:moveTo>
                    <a:pt x="0" y="568411"/>
                  </a:moveTo>
                  <a:lnTo>
                    <a:pt x="0" y="0"/>
                  </a:lnTo>
                  <a:lnTo>
                    <a:pt x="1618735" y="0"/>
                  </a:lnTo>
                  <a:lnTo>
                    <a:pt x="1618735" y="568411"/>
                  </a:lnTo>
                  <a:lnTo>
                    <a:pt x="565788" y="568411"/>
                  </a:lnTo>
                  <a:lnTo>
                    <a:pt x="284205" y="286828"/>
                  </a:lnTo>
                  <a:lnTo>
                    <a:pt x="2622" y="568411"/>
                  </a:lnTo>
                  <a:lnTo>
                    <a:pt x="0" y="568411"/>
                  </a:lnTo>
                  <a:close/>
                </a:path>
              </a:pathLst>
            </a:cu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五边形 43"/>
            <p:cNvSpPr/>
            <p:nvPr/>
          </p:nvSpPr>
          <p:spPr>
            <a:xfrm rot="2700000">
              <a:off x="2134440" y="1656000"/>
              <a:ext cx="1753560" cy="532080"/>
            </a:xfrm>
            <a:custGeom>
              <a:avLst/>
              <a:gdLst>
                <a:gd name="textAreaLeft" fmla="*/ 0 w 1753560"/>
                <a:gd name="textAreaRight" fmla="*/ 1753920 w 175356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五边形 44"/>
            <p:cNvSpPr/>
            <p:nvPr/>
          </p:nvSpPr>
          <p:spPr>
            <a:xfrm flipH="1" rot="2700000">
              <a:off x="1869480" y="2401200"/>
              <a:ext cx="532080" cy="1745280"/>
            </a:xfrm>
            <a:custGeom>
              <a:avLst/>
              <a:gdLst>
                <a:gd name="textAreaLeft" fmla="*/ 360 w 532080"/>
                <a:gd name="textAreaRight" fmla="*/ 532800 w 532080"/>
                <a:gd name="textAreaTop" fmla="*/ 0 h 1745280"/>
                <a:gd name="textAreaBottom" fmla="*/ 1745640 h 174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任意多边形 45"/>
            <p:cNvSpPr/>
            <p:nvPr/>
          </p:nvSpPr>
          <p:spPr>
            <a:xfrm flipH="1" flipV="1" rot="8100000">
              <a:off x="1054440" y="1988640"/>
              <a:ext cx="1516320" cy="532080"/>
            </a:xfrm>
            <a:custGeom>
              <a:avLst/>
              <a:gdLst/>
              <a:ahLst/>
              <a:rect l="l" t="t" r="r" b="b"/>
              <a:pathLst>
                <a:path w="1618735" h="568411">
                  <a:moveTo>
                    <a:pt x="0" y="568411"/>
                  </a:moveTo>
                  <a:lnTo>
                    <a:pt x="0" y="0"/>
                  </a:lnTo>
                  <a:lnTo>
                    <a:pt x="1618735" y="0"/>
                  </a:lnTo>
                  <a:lnTo>
                    <a:pt x="1618735" y="568411"/>
                  </a:lnTo>
                  <a:lnTo>
                    <a:pt x="565788" y="568411"/>
                  </a:lnTo>
                  <a:lnTo>
                    <a:pt x="284205" y="286828"/>
                  </a:lnTo>
                  <a:lnTo>
                    <a:pt x="2622" y="568411"/>
                  </a:lnTo>
                  <a:lnTo>
                    <a:pt x="0" y="568411"/>
                  </a:lnTo>
                  <a:close/>
                </a:path>
              </a:pathLst>
            </a:cu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组合 70"/>
          <p:cNvGrpSpPr/>
          <p:nvPr/>
        </p:nvGrpSpPr>
        <p:grpSpPr>
          <a:xfrm>
            <a:off x="4909320" y="1899360"/>
            <a:ext cx="2168280" cy="2161800"/>
            <a:chOff x="4909320" y="1899360"/>
            <a:chExt cx="2168280" cy="2161800"/>
          </a:xfrm>
        </p:grpSpPr>
        <p:sp>
          <p:nvSpPr>
            <p:cNvPr id="988" name="任意多边形 58"/>
            <p:cNvSpPr/>
            <p:nvPr/>
          </p:nvSpPr>
          <p:spPr>
            <a:xfrm rot="8100000">
              <a:off x="5996520" y="3040920"/>
              <a:ext cx="1105560" cy="388080"/>
            </a:xfrm>
            <a:custGeom>
              <a:avLst/>
              <a:gdLst/>
              <a:ahLst/>
              <a:rect l="l" t="t" r="r" b="b"/>
              <a:pathLst>
                <a:path w="1618735" h="568411">
                  <a:moveTo>
                    <a:pt x="0" y="568411"/>
                  </a:moveTo>
                  <a:lnTo>
                    <a:pt x="0" y="0"/>
                  </a:lnTo>
                  <a:lnTo>
                    <a:pt x="1618735" y="0"/>
                  </a:lnTo>
                  <a:lnTo>
                    <a:pt x="1618735" y="568411"/>
                  </a:lnTo>
                  <a:lnTo>
                    <a:pt x="565788" y="568411"/>
                  </a:lnTo>
                  <a:lnTo>
                    <a:pt x="284205" y="286828"/>
                  </a:lnTo>
                  <a:lnTo>
                    <a:pt x="2622" y="568411"/>
                  </a:lnTo>
                  <a:lnTo>
                    <a:pt x="0" y="568411"/>
                  </a:lnTo>
                  <a:close/>
                </a:path>
              </a:pathLst>
            </a:cu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五边形 59"/>
            <p:cNvSpPr/>
            <p:nvPr/>
          </p:nvSpPr>
          <p:spPr>
            <a:xfrm rot="2700000">
              <a:off x="5671080" y="2294280"/>
              <a:ext cx="1278360" cy="388080"/>
            </a:xfrm>
            <a:custGeom>
              <a:avLst/>
              <a:gdLst>
                <a:gd name="textAreaLeft" fmla="*/ 0 w 1278360"/>
                <a:gd name="textAreaRight" fmla="*/ 1278720 w 1278360"/>
                <a:gd name="textAreaTop" fmla="*/ 0 h 388080"/>
                <a:gd name="textAreaBottom" fmla="*/ 388440 h 38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五边形 60"/>
            <p:cNvSpPr/>
            <p:nvPr/>
          </p:nvSpPr>
          <p:spPr>
            <a:xfrm flipH="1" rot="2700000">
              <a:off x="5478120" y="2837520"/>
              <a:ext cx="388080" cy="1272600"/>
            </a:xfrm>
            <a:custGeom>
              <a:avLst/>
              <a:gdLst>
                <a:gd name="textAreaLeft" fmla="*/ 360 w 388080"/>
                <a:gd name="textAreaRight" fmla="*/ 388800 w 388080"/>
                <a:gd name="textAreaTop" fmla="*/ 0 h 1272600"/>
                <a:gd name="textAreaBottom" fmla="*/ 1272960 h 127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任意多边形 61"/>
            <p:cNvSpPr/>
            <p:nvPr/>
          </p:nvSpPr>
          <p:spPr>
            <a:xfrm flipH="1" flipV="1" rot="8100000">
              <a:off x="4884120" y="2537640"/>
              <a:ext cx="1105920" cy="388080"/>
            </a:xfrm>
            <a:custGeom>
              <a:avLst/>
              <a:gdLst/>
              <a:ahLst/>
              <a:rect l="l" t="t" r="r" b="b"/>
              <a:pathLst>
                <a:path w="1618735" h="568411">
                  <a:moveTo>
                    <a:pt x="0" y="568411"/>
                  </a:moveTo>
                  <a:lnTo>
                    <a:pt x="0" y="0"/>
                  </a:lnTo>
                  <a:lnTo>
                    <a:pt x="1618735" y="0"/>
                  </a:lnTo>
                  <a:lnTo>
                    <a:pt x="1618735" y="568411"/>
                  </a:lnTo>
                  <a:lnTo>
                    <a:pt x="565788" y="568411"/>
                  </a:lnTo>
                  <a:lnTo>
                    <a:pt x="284205" y="286828"/>
                  </a:lnTo>
                  <a:lnTo>
                    <a:pt x="2622" y="568411"/>
                  </a:lnTo>
                  <a:lnTo>
                    <a:pt x="0" y="568411"/>
                  </a:lnTo>
                  <a:close/>
                </a:path>
              </a:pathLst>
            </a:cu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文本框 34"/>
          <p:cNvSpPr/>
          <p:nvPr/>
        </p:nvSpPr>
        <p:spPr>
          <a:xfrm>
            <a:off x="10145520" y="4359240"/>
            <a:ext cx="11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b193"/>
                </a:solidFill>
                <a:latin typeface="微软雅黑"/>
                <a:ea typeface="微软雅黑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文本框 35"/>
          <p:cNvSpPr/>
          <p:nvPr/>
        </p:nvSpPr>
        <p:spPr>
          <a:xfrm>
            <a:off x="7968600" y="426420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7280"/>
                </a:solidFill>
                <a:latin typeface="微软雅黑"/>
                <a:ea typeface="微软雅黑"/>
              </a:rPr>
              <a:t>40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文本框 36"/>
          <p:cNvSpPr/>
          <p:nvPr/>
        </p:nvSpPr>
        <p:spPr>
          <a:xfrm>
            <a:off x="5358960" y="427824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6c84"/>
                </a:solidFill>
                <a:latin typeface="微软雅黑"/>
                <a:ea typeface="微软雅黑"/>
              </a:rPr>
              <a:t>50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文本框 37"/>
          <p:cNvSpPr/>
          <p:nvPr/>
        </p:nvSpPr>
        <p:spPr>
          <a:xfrm>
            <a:off x="1743120" y="416880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c5b7b"/>
                </a:solidFill>
                <a:latin typeface="微软雅黑"/>
                <a:ea typeface="微软雅黑"/>
              </a:rPr>
              <a:t>6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文本框 64"/>
          <p:cNvSpPr/>
          <p:nvPr/>
        </p:nvSpPr>
        <p:spPr>
          <a:xfrm>
            <a:off x="2328120" y="5092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级痛点是用户最痛需求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文本框 39"/>
          <p:cNvSpPr/>
          <p:nvPr/>
        </p:nvSpPr>
        <p:spPr>
          <a:xfrm>
            <a:off x="7293600" y="11192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6c84"/>
                </a:solidFill>
                <a:latin typeface="微软雅黑"/>
                <a:ea typeface="微软雅黑"/>
              </a:rPr>
              <a:t>找一级痛点，不是二三四五级痛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矩形 1"/>
          <p:cNvSpPr/>
          <p:nvPr/>
        </p:nvSpPr>
        <p:spPr>
          <a:xfrm>
            <a:off x="8165880" y="50925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伪痛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文本框 41"/>
          <p:cNvSpPr/>
          <p:nvPr/>
        </p:nvSpPr>
        <p:spPr>
          <a:xfrm>
            <a:off x="4342320" y="585792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关键词：白加黑   云南白药 消炎  小米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2" descr="探百村-logo-标志图形-组合1"/>
          <p:cNvPicPr/>
          <p:nvPr/>
        </p:nvPicPr>
        <p:blipFill>
          <a:blip r:embed="rId2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文本框 8"/>
          <p:cNvSpPr/>
          <p:nvPr/>
        </p:nvSpPr>
        <p:spPr>
          <a:xfrm>
            <a:off x="5495040" y="343368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怎么样找到用户一级痛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文本框 9"/>
          <p:cNvSpPr/>
          <p:nvPr/>
        </p:nvSpPr>
        <p:spPr>
          <a:xfrm>
            <a:off x="5220720" y="2114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听骂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9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6" dur="2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矩形 10"/>
          <p:cNvSpPr/>
          <p:nvPr/>
        </p:nvSpPr>
        <p:spPr>
          <a:xfrm>
            <a:off x="860400" y="1338120"/>
            <a:ext cx="4727520" cy="2527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矩形 11"/>
          <p:cNvSpPr/>
          <p:nvPr/>
        </p:nvSpPr>
        <p:spPr>
          <a:xfrm>
            <a:off x="6621480" y="1338120"/>
            <a:ext cx="4726080" cy="2527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" name="组合 27"/>
          <p:cNvGrpSpPr/>
          <p:nvPr/>
        </p:nvGrpSpPr>
        <p:grpSpPr>
          <a:xfrm>
            <a:off x="860400" y="3922560"/>
            <a:ext cx="4727520" cy="696600"/>
            <a:chOff x="860400" y="3922560"/>
            <a:chExt cx="4727520" cy="696600"/>
          </a:xfrm>
        </p:grpSpPr>
        <p:sp>
          <p:nvSpPr>
            <p:cNvPr id="1017" name="矩形 12"/>
            <p:cNvSpPr/>
            <p:nvPr/>
          </p:nvSpPr>
          <p:spPr>
            <a:xfrm rot="16200000">
              <a:off x="3135960" y="1864800"/>
              <a:ext cx="176040" cy="4727520"/>
            </a:xfrm>
            <a:prstGeom prst="rect">
              <a:avLst/>
            </a:pr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矩形 13"/>
            <p:cNvSpPr/>
            <p:nvPr/>
          </p:nvSpPr>
          <p:spPr>
            <a:xfrm rot="16200000">
              <a:off x="3180240" y="1694520"/>
              <a:ext cx="87840" cy="4727520"/>
            </a:xfrm>
            <a:prstGeom prst="rect">
              <a:avLst/>
            </a:pr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矩形 14"/>
            <p:cNvSpPr/>
            <p:nvPr/>
          </p:nvSpPr>
          <p:spPr>
            <a:xfrm rot="16200000">
              <a:off x="3197880" y="1585080"/>
              <a:ext cx="52560" cy="4727520"/>
            </a:xfrm>
            <a:prstGeom prst="rect">
              <a:avLst/>
            </a:pr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矩形 15"/>
            <p:cNvSpPr/>
            <p:nvPr/>
          </p:nvSpPr>
          <p:spPr>
            <a:xfrm rot="16200000">
              <a:off x="3092040" y="2123280"/>
              <a:ext cx="263880" cy="4727520"/>
            </a:xfrm>
            <a:prstGeom prst="rect">
              <a:avLst/>
            </a:pr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组合 28"/>
          <p:cNvGrpSpPr/>
          <p:nvPr/>
        </p:nvGrpSpPr>
        <p:grpSpPr>
          <a:xfrm>
            <a:off x="6621480" y="3922560"/>
            <a:ext cx="4726080" cy="696600"/>
            <a:chOff x="6621480" y="3922560"/>
            <a:chExt cx="4726080" cy="696600"/>
          </a:xfrm>
        </p:grpSpPr>
        <p:sp>
          <p:nvSpPr>
            <p:cNvPr id="1022" name="矩形 23"/>
            <p:cNvSpPr/>
            <p:nvPr/>
          </p:nvSpPr>
          <p:spPr>
            <a:xfrm rot="16200000">
              <a:off x="8896320" y="1865520"/>
              <a:ext cx="176040" cy="4726080"/>
            </a:xfrm>
            <a:prstGeom prst="rect">
              <a:avLst/>
            </a:pr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矩形 24"/>
            <p:cNvSpPr/>
            <p:nvPr/>
          </p:nvSpPr>
          <p:spPr>
            <a:xfrm rot="16200000">
              <a:off x="8940600" y="1695240"/>
              <a:ext cx="87840" cy="4726080"/>
            </a:xfrm>
            <a:prstGeom prst="rect">
              <a:avLst/>
            </a:pr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矩形 25"/>
            <p:cNvSpPr/>
            <p:nvPr/>
          </p:nvSpPr>
          <p:spPr>
            <a:xfrm rot="16200000">
              <a:off x="8958240" y="1585800"/>
              <a:ext cx="52560" cy="4726080"/>
            </a:xfrm>
            <a:prstGeom prst="rect">
              <a:avLst/>
            </a:pr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矩形 26"/>
            <p:cNvSpPr/>
            <p:nvPr/>
          </p:nvSpPr>
          <p:spPr>
            <a:xfrm rot="16200000">
              <a:off x="8852400" y="2124000"/>
              <a:ext cx="263880" cy="4726080"/>
            </a:xfrm>
            <a:prstGeom prst="rect">
              <a:avLst/>
            </a:pr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文本框 29"/>
          <p:cNvSpPr/>
          <p:nvPr/>
        </p:nvSpPr>
        <p:spPr>
          <a:xfrm>
            <a:off x="1876680" y="481320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凉茶：怕上火＞解油腻＞老字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圆角矩形 1"/>
          <p:cNvSpPr/>
          <p:nvPr/>
        </p:nvSpPr>
        <p:spPr>
          <a:xfrm>
            <a:off x="1801800" y="2035080"/>
            <a:ext cx="2665440" cy="1347840"/>
          </a:xfrm>
          <a:prstGeom prst="roundRect">
            <a:avLst>
              <a:gd name="adj" fmla="val 16667"/>
            </a:avLst>
          </a:prstGeom>
          <a:solidFill>
            <a:srgbClr val="595959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文本框 2"/>
          <p:cNvSpPr/>
          <p:nvPr/>
        </p:nvSpPr>
        <p:spPr>
          <a:xfrm>
            <a:off x="2724120" y="2448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伪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圆角矩形 23"/>
          <p:cNvSpPr/>
          <p:nvPr/>
        </p:nvSpPr>
        <p:spPr>
          <a:xfrm>
            <a:off x="7651800" y="2052720"/>
            <a:ext cx="2665440" cy="1346040"/>
          </a:xfrm>
          <a:prstGeom prst="roundRect">
            <a:avLst>
              <a:gd name="adj" fmla="val 16667"/>
            </a:avLst>
          </a:prstGeom>
          <a:solidFill>
            <a:srgbClr val="595959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文本框 24"/>
          <p:cNvSpPr/>
          <p:nvPr/>
        </p:nvSpPr>
        <p:spPr>
          <a:xfrm>
            <a:off x="8646480" y="2448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痛点用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文本框 29"/>
          <p:cNvSpPr/>
          <p:nvPr/>
        </p:nvSpPr>
        <p:spPr>
          <a:xfrm>
            <a:off x="6226200" y="4842000"/>
            <a:ext cx="61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户痛点不一，多重痛点产品撬动重叠用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3" name="图片 3" descr="探百村-logo-标志图形-组合1"/>
          <p:cNvPicPr/>
          <p:nvPr/>
        </p:nvPicPr>
        <p:blipFill>
          <a:blip r:embed="rId4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文本框 10"/>
          <p:cNvSpPr/>
          <p:nvPr/>
        </p:nvSpPr>
        <p:spPr>
          <a:xfrm>
            <a:off x="3117960" y="3130560"/>
            <a:ext cx="658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针对用户痛点，搞定的人越多，痛点越深，越痛，用户愿意消费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0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椭圆 15"/>
          <p:cNvSpPr/>
          <p:nvPr/>
        </p:nvSpPr>
        <p:spPr>
          <a:xfrm>
            <a:off x="2695680" y="4662360"/>
            <a:ext cx="799920" cy="79848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椭圆 7"/>
          <p:cNvSpPr/>
          <p:nvPr/>
        </p:nvSpPr>
        <p:spPr>
          <a:xfrm>
            <a:off x="6534000" y="3619440"/>
            <a:ext cx="1702080" cy="1701720"/>
          </a:xfrm>
          <a:prstGeom prst="ellipse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椭圆 8"/>
          <p:cNvSpPr/>
          <p:nvPr/>
        </p:nvSpPr>
        <p:spPr>
          <a:xfrm>
            <a:off x="3797280" y="1397160"/>
            <a:ext cx="3543480" cy="3543120"/>
          </a:xfrm>
          <a:prstGeom prst="ellipse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椭圆 1"/>
          <p:cNvSpPr/>
          <p:nvPr/>
        </p:nvSpPr>
        <p:spPr>
          <a:xfrm>
            <a:off x="6534000" y="812880"/>
            <a:ext cx="2590920" cy="259056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椭圆 9"/>
          <p:cNvSpPr/>
          <p:nvPr/>
        </p:nvSpPr>
        <p:spPr>
          <a:xfrm>
            <a:off x="2954160" y="3390840"/>
            <a:ext cx="1930680" cy="193032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椭圆 10"/>
          <p:cNvSpPr/>
          <p:nvPr/>
        </p:nvSpPr>
        <p:spPr>
          <a:xfrm>
            <a:off x="1914480" y="1397160"/>
            <a:ext cx="514440" cy="51408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椭圆 11"/>
          <p:cNvSpPr/>
          <p:nvPr/>
        </p:nvSpPr>
        <p:spPr>
          <a:xfrm>
            <a:off x="5280120" y="5842080"/>
            <a:ext cx="288720" cy="288720"/>
          </a:xfrm>
          <a:prstGeom prst="ellipse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椭圆 12"/>
          <p:cNvSpPr/>
          <p:nvPr/>
        </p:nvSpPr>
        <p:spPr>
          <a:xfrm>
            <a:off x="9815400" y="2139840"/>
            <a:ext cx="524160" cy="52416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椭圆 13"/>
          <p:cNvSpPr/>
          <p:nvPr/>
        </p:nvSpPr>
        <p:spPr>
          <a:xfrm>
            <a:off x="5045040" y="412920"/>
            <a:ext cx="798480" cy="79992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椭圆 14"/>
          <p:cNvSpPr/>
          <p:nvPr/>
        </p:nvSpPr>
        <p:spPr>
          <a:xfrm>
            <a:off x="9763200" y="4819680"/>
            <a:ext cx="244440" cy="243000"/>
          </a:xfrm>
          <a:prstGeom prst="ellipse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文本框 2"/>
          <p:cNvSpPr/>
          <p:nvPr/>
        </p:nvSpPr>
        <p:spPr>
          <a:xfrm>
            <a:off x="4838760" y="1384200"/>
            <a:ext cx="1625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方正姚体"/>
                <a:ea typeface="方正姚体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文本框 17"/>
          <p:cNvSpPr/>
          <p:nvPr/>
        </p:nvSpPr>
        <p:spPr>
          <a:xfrm>
            <a:off x="7423200" y="1846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创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3" name="图片 1" descr="探百村-logo-标志图形"/>
          <p:cNvPicPr/>
          <p:nvPr/>
        </p:nvPicPr>
        <p:blipFill>
          <a:blip r:embed="rId2"/>
          <a:stretch/>
        </p:blipFill>
        <p:spPr>
          <a:xfrm>
            <a:off x="415800" y="306360"/>
            <a:ext cx="190836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微创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文本框 10"/>
          <p:cNvSpPr/>
          <p:nvPr/>
        </p:nvSpPr>
        <p:spPr>
          <a:xfrm>
            <a:off x="4186800" y="2114640"/>
            <a:ext cx="446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厘米宽的产品，如何做到</a:t>
            </a:r>
            <a:r>
              <a:rPr b="1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公里的深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文本框 7"/>
          <p:cNvSpPr/>
          <p:nvPr/>
        </p:nvSpPr>
        <p:spPr>
          <a:xfrm>
            <a:off x="1660680" y="3919680"/>
            <a:ext cx="31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厘米宽的产品，做到</a:t>
            </a:r>
            <a:r>
              <a:rPr b="1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米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文本框 8"/>
          <p:cNvSpPr/>
          <p:nvPr/>
        </p:nvSpPr>
        <p:spPr>
          <a:xfrm>
            <a:off x="7387920" y="3919680"/>
            <a:ext cx="340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厘米宽的产品，做到</a:t>
            </a:r>
            <a:r>
              <a:rPr b="1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公里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文本框 1"/>
          <p:cNvSpPr/>
          <p:nvPr/>
        </p:nvSpPr>
        <p:spPr>
          <a:xfrm>
            <a:off x="2737800" y="4680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5b7b"/>
                </a:solidFill>
                <a:latin typeface="微软雅黑"/>
                <a:ea typeface="微软雅黑"/>
              </a:rPr>
              <a:t>渠道为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文本框 11"/>
          <p:cNvSpPr/>
          <p:nvPr/>
        </p:nvSpPr>
        <p:spPr>
          <a:xfrm>
            <a:off x="8571960" y="4680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5b7b"/>
                </a:solidFill>
                <a:latin typeface="微软雅黑"/>
                <a:ea typeface="微软雅黑"/>
              </a:rPr>
              <a:t>口碑为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图片 1" descr="u=2538588592,2251401514&amp;fm=26&amp;gp=0.jpg"/>
          <p:cNvPicPr/>
          <p:nvPr/>
        </p:nvPicPr>
        <p:blipFill>
          <a:blip r:embed="rId1"/>
          <a:stretch/>
        </p:blipFill>
        <p:spPr>
          <a:xfrm>
            <a:off x="574560" y="1146240"/>
            <a:ext cx="11042640" cy="480996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1" descr="探百村-logo-标志图形"/>
          <p:cNvPicPr/>
          <p:nvPr/>
        </p:nvPicPr>
        <p:blipFill>
          <a:blip r:embed="rId2"/>
          <a:stretch/>
        </p:blipFill>
        <p:spPr>
          <a:xfrm>
            <a:off x="415800" y="306360"/>
            <a:ext cx="190836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微创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文本框 12"/>
          <p:cNvSpPr/>
          <p:nvPr/>
        </p:nvSpPr>
        <p:spPr>
          <a:xfrm>
            <a:off x="4602960" y="25653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产品的极致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文本框 13"/>
          <p:cNvSpPr/>
          <p:nvPr/>
        </p:nvSpPr>
        <p:spPr>
          <a:xfrm>
            <a:off x="3778920" y="388476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口碑！这种口碑的背后就是超预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2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任意多边形 47"/>
          <p:cNvSpPr/>
          <p:nvPr/>
        </p:nvSpPr>
        <p:spPr>
          <a:xfrm flipH="1" rot="21480000">
            <a:off x="3038400" y="2651040"/>
            <a:ext cx="1901880" cy="1133640"/>
          </a:xfrm>
          <a:custGeom>
            <a:avLst/>
            <a:gdLst/>
            <a:ahLst/>
            <a:rect l="l" t="t" r="r" b="b"/>
            <a:pathLst>
              <a:path w="2262142" h="1396256">
                <a:moveTo>
                  <a:pt x="0" y="0"/>
                </a:moveTo>
                <a:lnTo>
                  <a:pt x="74770" y="1396256"/>
                </a:lnTo>
                <a:lnTo>
                  <a:pt x="2262142" y="1396256"/>
                </a:lnTo>
                <a:lnTo>
                  <a:pt x="0" y="0"/>
                </a:lnTo>
                <a:close/>
              </a:path>
            </a:pathLst>
          </a:custGeom>
          <a:solidFill>
            <a:srgbClr val="f34b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任意多边形 51"/>
          <p:cNvSpPr/>
          <p:nvPr/>
        </p:nvSpPr>
        <p:spPr>
          <a:xfrm>
            <a:off x="4896000" y="2625840"/>
            <a:ext cx="1428480" cy="1133280"/>
          </a:xfrm>
          <a:custGeom>
            <a:avLst/>
            <a:gdLst/>
            <a:ahLst/>
            <a:rect l="l" t="t" r="r" b="b"/>
            <a:pathLst>
              <a:path w="1699399" h="1344593">
                <a:moveTo>
                  <a:pt x="0" y="0"/>
                </a:moveTo>
                <a:lnTo>
                  <a:pt x="1475296" y="0"/>
                </a:lnTo>
                <a:cubicBezTo>
                  <a:pt x="1599065" y="0"/>
                  <a:pt x="1699399" y="100334"/>
                  <a:pt x="1699399" y="224103"/>
                </a:cubicBezTo>
                <a:lnTo>
                  <a:pt x="1699399" y="1120490"/>
                </a:lnTo>
                <a:cubicBezTo>
                  <a:pt x="1699399" y="1244259"/>
                  <a:pt x="1599065" y="1344593"/>
                  <a:pt x="1475296" y="1344593"/>
                </a:cubicBezTo>
                <a:lnTo>
                  <a:pt x="0" y="1344593"/>
                </a:lnTo>
                <a:lnTo>
                  <a:pt x="0" y="0"/>
                </a:lnTo>
                <a:close/>
              </a:path>
            </a:pathLst>
          </a:cu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任意多边形 63"/>
          <p:cNvSpPr/>
          <p:nvPr/>
        </p:nvSpPr>
        <p:spPr>
          <a:xfrm flipH="1" flipV="1" rot="120000">
            <a:off x="3037320" y="3841200"/>
            <a:ext cx="1901880" cy="1128600"/>
          </a:xfrm>
          <a:custGeom>
            <a:avLst/>
            <a:gdLst/>
            <a:ahLst/>
            <a:rect l="l" t="t" r="r" b="b"/>
            <a:pathLst>
              <a:path w="1901961" h="1128526">
                <a:moveTo>
                  <a:pt x="1901961" y="1128526"/>
                </a:moveTo>
                <a:lnTo>
                  <a:pt x="62575" y="1128526"/>
                </a:lnTo>
                <a:lnTo>
                  <a:pt x="0" y="290"/>
                </a:lnTo>
                <a:lnTo>
                  <a:pt x="8289" y="0"/>
                </a:lnTo>
                <a:lnTo>
                  <a:pt x="1901961" y="1128526"/>
                </a:lnTo>
                <a:close/>
              </a:path>
            </a:pathLst>
          </a:custGeom>
          <a:solidFill>
            <a:srgbClr val="b24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任意多边形 53"/>
          <p:cNvSpPr/>
          <p:nvPr/>
        </p:nvSpPr>
        <p:spPr>
          <a:xfrm flipV="1">
            <a:off x="4878360" y="3866400"/>
            <a:ext cx="1428840" cy="1120680"/>
          </a:xfrm>
          <a:custGeom>
            <a:avLst/>
            <a:gdLst/>
            <a:ahLst/>
            <a:rect l="l" t="t" r="r" b="b"/>
            <a:pathLst>
              <a:path w="1699399" h="1344593">
                <a:moveTo>
                  <a:pt x="0" y="0"/>
                </a:moveTo>
                <a:lnTo>
                  <a:pt x="1475296" y="0"/>
                </a:lnTo>
                <a:cubicBezTo>
                  <a:pt x="1599065" y="0"/>
                  <a:pt x="1699399" y="100334"/>
                  <a:pt x="1699399" y="224103"/>
                </a:cubicBezTo>
                <a:lnTo>
                  <a:pt x="1699399" y="1120490"/>
                </a:lnTo>
                <a:cubicBezTo>
                  <a:pt x="1699399" y="1244259"/>
                  <a:pt x="1599065" y="1344593"/>
                  <a:pt x="1475296" y="1344593"/>
                </a:cubicBezTo>
                <a:lnTo>
                  <a:pt x="0" y="1344593"/>
                </a:lnTo>
                <a:lnTo>
                  <a:pt x="0" y="0"/>
                </a:lnTo>
                <a:close/>
              </a:path>
            </a:pathLst>
          </a:cu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任意多边形 55"/>
          <p:cNvSpPr/>
          <p:nvPr/>
        </p:nvSpPr>
        <p:spPr>
          <a:xfrm flipV="1" rot="13105800">
            <a:off x="2507400" y="4535640"/>
            <a:ext cx="3000600" cy="879840"/>
          </a:xfrm>
          <a:custGeom>
            <a:avLst/>
            <a:gdLst/>
            <a:ahLst/>
            <a:rect l="l" t="t" r="r" b="b"/>
            <a:pathLst>
              <a:path w="3567861" h="1045825">
                <a:moveTo>
                  <a:pt x="0" y="1045825"/>
                </a:moveTo>
                <a:lnTo>
                  <a:pt x="829510" y="0"/>
                </a:lnTo>
                <a:lnTo>
                  <a:pt x="3567861" y="116658"/>
                </a:lnTo>
                <a:cubicBezTo>
                  <a:pt x="2354936" y="465266"/>
                  <a:pt x="1212925" y="697217"/>
                  <a:pt x="0" y="1045825"/>
                </a:cubicBezTo>
                <a:close/>
              </a:path>
            </a:pathLst>
          </a:custGeom>
          <a:solidFill>
            <a:srgbClr val="594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任意多边形 56"/>
          <p:cNvSpPr/>
          <p:nvPr/>
        </p:nvSpPr>
        <p:spPr>
          <a:xfrm flipV="1">
            <a:off x="4878360" y="5114880"/>
            <a:ext cx="1428840" cy="1116000"/>
          </a:xfrm>
          <a:custGeom>
            <a:avLst/>
            <a:gdLst/>
            <a:ahLst/>
            <a:rect l="l" t="t" r="r" b="b"/>
            <a:pathLst>
              <a:path w="1699399" h="1344593">
                <a:moveTo>
                  <a:pt x="0" y="0"/>
                </a:moveTo>
                <a:lnTo>
                  <a:pt x="1475296" y="0"/>
                </a:lnTo>
                <a:cubicBezTo>
                  <a:pt x="1599065" y="0"/>
                  <a:pt x="1699399" y="100334"/>
                  <a:pt x="1699399" y="224103"/>
                </a:cubicBezTo>
                <a:lnTo>
                  <a:pt x="1699399" y="1120490"/>
                </a:lnTo>
                <a:cubicBezTo>
                  <a:pt x="1699399" y="1244259"/>
                  <a:pt x="1599065" y="1344593"/>
                  <a:pt x="1475296" y="1344593"/>
                </a:cubicBezTo>
                <a:lnTo>
                  <a:pt x="0" y="1344593"/>
                </a:lnTo>
                <a:lnTo>
                  <a:pt x="0" y="0"/>
                </a:lnTo>
                <a:close/>
              </a:path>
            </a:pathLst>
          </a:cu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任意多边形 58"/>
          <p:cNvSpPr/>
          <p:nvPr/>
        </p:nvSpPr>
        <p:spPr>
          <a:xfrm rot="8494200">
            <a:off x="2507400" y="2196360"/>
            <a:ext cx="3000600" cy="879480"/>
          </a:xfrm>
          <a:custGeom>
            <a:avLst/>
            <a:gdLst/>
            <a:ahLst/>
            <a:rect l="l" t="t" r="r" b="b"/>
            <a:pathLst>
              <a:path w="3567861" h="1045825">
                <a:moveTo>
                  <a:pt x="0" y="1045825"/>
                </a:moveTo>
                <a:lnTo>
                  <a:pt x="829510" y="0"/>
                </a:lnTo>
                <a:lnTo>
                  <a:pt x="3567861" y="116658"/>
                </a:lnTo>
                <a:cubicBezTo>
                  <a:pt x="2354936" y="465266"/>
                  <a:pt x="1212925" y="697217"/>
                  <a:pt x="0" y="1045825"/>
                </a:cubicBezTo>
                <a:close/>
              </a:path>
            </a:pathLst>
          </a:custGeom>
          <a:solidFill>
            <a:srgbClr val="f588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任意多边形 59"/>
          <p:cNvSpPr/>
          <p:nvPr/>
        </p:nvSpPr>
        <p:spPr>
          <a:xfrm>
            <a:off x="4896000" y="1374840"/>
            <a:ext cx="1428480" cy="1117440"/>
          </a:xfrm>
          <a:custGeom>
            <a:avLst/>
            <a:gdLst/>
            <a:ahLst/>
            <a:rect l="l" t="t" r="r" b="b"/>
            <a:pathLst>
              <a:path w="1699399" h="1344593">
                <a:moveTo>
                  <a:pt x="0" y="0"/>
                </a:moveTo>
                <a:lnTo>
                  <a:pt x="1475296" y="0"/>
                </a:lnTo>
                <a:cubicBezTo>
                  <a:pt x="1599065" y="0"/>
                  <a:pt x="1699399" y="100334"/>
                  <a:pt x="1699399" y="224103"/>
                </a:cubicBezTo>
                <a:lnTo>
                  <a:pt x="1699399" y="1120490"/>
                </a:lnTo>
                <a:cubicBezTo>
                  <a:pt x="1699399" y="1244259"/>
                  <a:pt x="1599065" y="1344593"/>
                  <a:pt x="1475296" y="1344593"/>
                </a:cubicBezTo>
                <a:lnTo>
                  <a:pt x="0" y="1344593"/>
                </a:lnTo>
                <a:lnTo>
                  <a:pt x="0" y="0"/>
                </a:lnTo>
                <a:close/>
              </a:path>
            </a:pathLst>
          </a:cu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组合 27"/>
          <p:cNvGrpSpPr/>
          <p:nvPr/>
        </p:nvGrpSpPr>
        <p:grpSpPr>
          <a:xfrm>
            <a:off x="1716120" y="3241800"/>
            <a:ext cx="1368360" cy="1374480"/>
            <a:chOff x="1716120" y="3241800"/>
            <a:chExt cx="1368360" cy="1374480"/>
          </a:xfrm>
        </p:grpSpPr>
        <p:grpSp>
          <p:nvGrpSpPr>
            <p:cNvPr id="1086" name="组合 25"/>
            <p:cNvGrpSpPr/>
            <p:nvPr/>
          </p:nvGrpSpPr>
          <p:grpSpPr>
            <a:xfrm>
              <a:off x="1716120" y="3241800"/>
              <a:ext cx="1368360" cy="1374480"/>
              <a:chOff x="1716120" y="3241800"/>
              <a:chExt cx="1368360" cy="1374480"/>
            </a:xfrm>
          </p:grpSpPr>
          <p:sp>
            <p:nvSpPr>
              <p:cNvPr id="1087" name="矩形 11"/>
              <p:cNvSpPr/>
              <p:nvPr/>
            </p:nvSpPr>
            <p:spPr>
              <a:xfrm>
                <a:off x="1716120" y="3494520"/>
                <a:ext cx="791640" cy="623880"/>
              </a:xfrm>
              <a:prstGeom prst="rect">
                <a:avLst/>
              </a:prstGeom>
              <a:solidFill>
                <a:srgbClr val="355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矩形 12"/>
              <p:cNvSpPr/>
              <p:nvPr/>
            </p:nvSpPr>
            <p:spPr>
              <a:xfrm>
                <a:off x="1716120" y="3241800"/>
                <a:ext cx="556920" cy="252720"/>
              </a:xfrm>
              <a:prstGeom prst="rect">
                <a:avLst/>
              </a:prstGeom>
              <a:solidFill>
                <a:srgbClr val="355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矩形 13"/>
              <p:cNvSpPr/>
              <p:nvPr/>
            </p:nvSpPr>
            <p:spPr>
              <a:xfrm>
                <a:off x="2541240" y="3528360"/>
                <a:ext cx="293760" cy="564840"/>
              </a:xfrm>
              <a:prstGeom prst="rect">
                <a:avLst/>
              </a:prstGeom>
              <a:solidFill>
                <a:srgbClr val="355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任意多边形 18"/>
              <p:cNvSpPr/>
              <p:nvPr/>
            </p:nvSpPr>
            <p:spPr>
              <a:xfrm>
                <a:off x="2866680" y="3384360"/>
                <a:ext cx="217800" cy="836280"/>
              </a:xfrm>
              <a:custGeom>
                <a:avLst/>
                <a:gdLst/>
                <a:ahLst/>
                <a:rect l="l" t="t" r="r" b="b"/>
                <a:pathLst>
                  <a:path w="215619" h="839485">
                    <a:moveTo>
                      <a:pt x="215619" y="0"/>
                    </a:moveTo>
                    <a:lnTo>
                      <a:pt x="215619" y="839485"/>
                    </a:lnTo>
                    <a:lnTo>
                      <a:pt x="0" y="691923"/>
                    </a:lnTo>
                    <a:lnTo>
                      <a:pt x="0" y="147562"/>
                    </a:lnTo>
                    <a:lnTo>
                      <a:pt x="215619" y="0"/>
                    </a:lnTo>
                    <a:close/>
                  </a:path>
                </a:pathLst>
              </a:custGeom>
              <a:solidFill>
                <a:srgbClr val="355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任意多边形 21"/>
              <p:cNvSpPr/>
              <p:nvPr/>
            </p:nvSpPr>
            <p:spPr>
              <a:xfrm>
                <a:off x="1808280" y="4059720"/>
                <a:ext cx="429480" cy="556560"/>
              </a:xfrm>
              <a:custGeom>
                <a:avLst/>
                <a:gdLst/>
                <a:ahLst/>
                <a:rect l="l" t="t" r="r" b="b"/>
                <a:pathLst>
                  <a:path w="431799" h="558801">
                    <a:moveTo>
                      <a:pt x="62411" y="80767"/>
                    </a:moveTo>
                    <a:lnTo>
                      <a:pt x="62411" y="478032"/>
                    </a:lnTo>
                    <a:lnTo>
                      <a:pt x="369387" y="478032"/>
                    </a:lnTo>
                    <a:lnTo>
                      <a:pt x="369387" y="80767"/>
                    </a:lnTo>
                    <a:lnTo>
                      <a:pt x="62411" y="80767"/>
                    </a:lnTo>
                    <a:close/>
                    <a:moveTo>
                      <a:pt x="0" y="0"/>
                    </a:moveTo>
                    <a:lnTo>
                      <a:pt x="431799" y="0"/>
                    </a:lnTo>
                    <a:lnTo>
                      <a:pt x="431799" y="558801"/>
                    </a:lnTo>
                    <a:lnTo>
                      <a:pt x="0" y="5588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55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椭圆 22"/>
              <p:cNvSpPr/>
              <p:nvPr/>
            </p:nvSpPr>
            <p:spPr>
              <a:xfrm>
                <a:off x="2184120" y="4241880"/>
                <a:ext cx="374040" cy="374400"/>
              </a:xfrm>
              <a:prstGeom prst="ellipse">
                <a:avLst/>
              </a:prstGeom>
              <a:solidFill>
                <a:srgbClr val="355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矩形 23"/>
              <p:cNvSpPr/>
              <p:nvPr/>
            </p:nvSpPr>
            <p:spPr>
              <a:xfrm>
                <a:off x="2190240" y="4051440"/>
                <a:ext cx="166680" cy="564840"/>
              </a:xfrm>
              <a:prstGeom prst="rect">
                <a:avLst/>
              </a:prstGeom>
              <a:solidFill>
                <a:srgbClr val="355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4" name="椭圆 26"/>
            <p:cNvSpPr/>
            <p:nvPr/>
          </p:nvSpPr>
          <p:spPr>
            <a:xfrm>
              <a:off x="2248920" y="4309560"/>
              <a:ext cx="250560" cy="25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文本框 68"/>
          <p:cNvSpPr/>
          <p:nvPr/>
        </p:nvSpPr>
        <p:spPr>
          <a:xfrm>
            <a:off x="7590600" y="1434960"/>
            <a:ext cx="21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b193"/>
                </a:solidFill>
                <a:latin typeface="微软雅黑"/>
                <a:ea typeface="微软雅黑"/>
              </a:rPr>
              <a:t>专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到用户的正面口碑就要专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文本框 69"/>
          <p:cNvSpPr/>
          <p:nvPr/>
        </p:nvSpPr>
        <p:spPr>
          <a:xfrm>
            <a:off x="7292160" y="2631960"/>
            <a:ext cx="159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67280"/>
                </a:solidFill>
                <a:latin typeface="微软雅黑"/>
                <a:ea typeface="微软雅黑"/>
              </a:rPr>
              <a:t>极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深挖痛点快速试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文本框 70"/>
          <p:cNvSpPr/>
          <p:nvPr/>
        </p:nvSpPr>
        <p:spPr>
          <a:xfrm>
            <a:off x="7187400" y="3828960"/>
            <a:ext cx="128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6c84"/>
                </a:solidFill>
                <a:latin typeface="微软雅黑"/>
                <a:ea typeface="微软雅黑"/>
              </a:rPr>
              <a:t>口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快速主动传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文本框 71"/>
          <p:cNvSpPr/>
          <p:nvPr/>
        </p:nvSpPr>
        <p:spPr>
          <a:xfrm>
            <a:off x="7447320" y="5040360"/>
            <a:ext cx="28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5b7b"/>
                </a:solidFill>
                <a:latin typeface="微软雅黑"/>
                <a:ea typeface="微软雅黑"/>
              </a:rPr>
              <a:t>超预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用户尖叫点，包装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性能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感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文本框 10"/>
          <p:cNvSpPr/>
          <p:nvPr/>
        </p:nvSpPr>
        <p:spPr>
          <a:xfrm>
            <a:off x="5275440" y="1366920"/>
            <a:ext cx="75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文本框 37"/>
          <p:cNvSpPr/>
          <p:nvPr/>
        </p:nvSpPr>
        <p:spPr>
          <a:xfrm>
            <a:off x="5232240" y="2692440"/>
            <a:ext cx="744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文本框 38"/>
          <p:cNvSpPr/>
          <p:nvPr/>
        </p:nvSpPr>
        <p:spPr>
          <a:xfrm>
            <a:off x="5230800" y="3922560"/>
            <a:ext cx="6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文本框 39"/>
          <p:cNvSpPr/>
          <p:nvPr/>
        </p:nvSpPr>
        <p:spPr>
          <a:xfrm>
            <a:off x="5238000" y="521028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微创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4" name="图片 2" descr="探百村-logo-标志图形-组合1"/>
          <p:cNvPicPr/>
          <p:nvPr/>
        </p:nvPicPr>
        <p:blipFill>
          <a:blip r:embed="rId2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微创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组 2"/>
          <p:cNvGrpSpPr/>
          <p:nvPr/>
        </p:nvGrpSpPr>
        <p:grpSpPr>
          <a:xfrm>
            <a:off x="9229320" y="584280"/>
            <a:ext cx="1941840" cy="3154320"/>
            <a:chOff x="9229320" y="584280"/>
            <a:chExt cx="1941840" cy="3154320"/>
          </a:xfrm>
        </p:grpSpPr>
        <p:pic>
          <p:nvPicPr>
            <p:cNvPr id="1111" name="矩形 1" descr=""/>
            <p:cNvPicPr/>
            <p:nvPr/>
          </p:nvPicPr>
          <p:blipFill>
            <a:blip r:embed="rId1"/>
            <a:stretch/>
          </p:blipFill>
          <p:spPr>
            <a:xfrm>
              <a:off x="9229320" y="584280"/>
              <a:ext cx="1941840" cy="31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2" name="文本框 12"/>
            <p:cNvSpPr/>
            <p:nvPr/>
          </p:nvSpPr>
          <p:spPr>
            <a:xfrm>
              <a:off x="9324000" y="180216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霸权思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3" name="文本框 8"/>
          <p:cNvSpPr/>
          <p:nvPr/>
        </p:nvSpPr>
        <p:spPr>
          <a:xfrm>
            <a:off x="4542480" y="260820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06c84"/>
                </a:solidFill>
                <a:latin typeface="微软雅黑"/>
                <a:ea typeface="微软雅黑"/>
              </a:rPr>
              <a:t>上帝思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图片 2" descr="探百村-logo-标志图形-组合1"/>
          <p:cNvPicPr/>
          <p:nvPr/>
        </p:nvPicPr>
        <p:blipFill>
          <a:blip r:embed="rId2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六边形 10"/>
          <p:cNvSpPr/>
          <p:nvPr/>
        </p:nvSpPr>
        <p:spPr>
          <a:xfrm rot="5400000">
            <a:off x="4069800" y="3197160"/>
            <a:ext cx="1467000" cy="1266840"/>
          </a:xfrm>
          <a:prstGeom prst="hexagon">
            <a:avLst>
              <a:gd name="adj" fmla="val 24950"/>
              <a:gd name="vf" fmla="val 115470"/>
            </a:avLst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六边形 11"/>
          <p:cNvSpPr/>
          <p:nvPr/>
        </p:nvSpPr>
        <p:spPr>
          <a:xfrm rot="5400000">
            <a:off x="4700160" y="4389120"/>
            <a:ext cx="1466640" cy="126396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六边形 12"/>
          <p:cNvSpPr/>
          <p:nvPr/>
        </p:nvSpPr>
        <p:spPr>
          <a:xfrm rot="5400000">
            <a:off x="5993640" y="4372920"/>
            <a:ext cx="1466640" cy="1265040"/>
          </a:xfrm>
          <a:prstGeom prst="hexagon">
            <a:avLst>
              <a:gd name="adj" fmla="val 24980"/>
              <a:gd name="vf" fmla="val 115470"/>
            </a:avLst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六边形 13"/>
          <p:cNvSpPr/>
          <p:nvPr/>
        </p:nvSpPr>
        <p:spPr>
          <a:xfrm rot="5400000">
            <a:off x="6640920" y="3197880"/>
            <a:ext cx="1467000" cy="1265400"/>
          </a:xfrm>
          <a:prstGeom prst="hexagon">
            <a:avLst>
              <a:gd name="adj" fmla="val 24979"/>
              <a:gd name="vf" fmla="val 115470"/>
            </a:avLst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六边形 14"/>
          <p:cNvSpPr/>
          <p:nvPr/>
        </p:nvSpPr>
        <p:spPr>
          <a:xfrm rot="5400000">
            <a:off x="6017760" y="2004840"/>
            <a:ext cx="1468440" cy="126540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六边形 15"/>
          <p:cNvSpPr/>
          <p:nvPr/>
        </p:nvSpPr>
        <p:spPr>
          <a:xfrm rot="5400000">
            <a:off x="4711320" y="2012760"/>
            <a:ext cx="1466640" cy="1266840"/>
          </a:xfrm>
          <a:prstGeom prst="hexagon">
            <a:avLst>
              <a:gd name="adj" fmla="val 24944"/>
              <a:gd name="vf" fmla="val 115470"/>
            </a:avLst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六边形 16"/>
          <p:cNvSpPr/>
          <p:nvPr/>
        </p:nvSpPr>
        <p:spPr>
          <a:xfrm rot="5400000">
            <a:off x="5405040" y="3240000"/>
            <a:ext cx="1379520" cy="1189080"/>
          </a:xfrm>
          <a:prstGeom prst="hexagon">
            <a:avLst>
              <a:gd name="adj" fmla="val 24991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文本框 17"/>
          <p:cNvSpPr/>
          <p:nvPr/>
        </p:nvSpPr>
        <p:spPr>
          <a:xfrm>
            <a:off x="2792880" y="190512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6c84"/>
                </a:solidFill>
                <a:latin typeface="微软雅黑"/>
                <a:ea typeface="微软雅黑"/>
              </a:rPr>
              <a:t>顺应潮流的勇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文本框 18"/>
          <p:cNvSpPr/>
          <p:nvPr/>
        </p:nvSpPr>
        <p:spPr>
          <a:xfrm>
            <a:off x="2529000" y="3322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67280"/>
                </a:solidFill>
                <a:latin typeface="微软雅黑"/>
                <a:ea typeface="微软雅黑"/>
              </a:rPr>
              <a:t>开放的协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文本框 19"/>
          <p:cNvSpPr/>
          <p:nvPr/>
        </p:nvSpPr>
        <p:spPr>
          <a:xfrm>
            <a:off x="3214800" y="4560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b193"/>
                </a:solidFill>
                <a:latin typeface="微软雅黑"/>
                <a:ea typeface="微软雅黑"/>
              </a:rPr>
              <a:t>数据为资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文本框 20"/>
          <p:cNvSpPr/>
          <p:nvPr/>
        </p:nvSpPr>
        <p:spPr>
          <a:xfrm>
            <a:off x="8004240" y="1905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c5b7b"/>
                </a:solidFill>
                <a:latin typeface="微软雅黑"/>
                <a:ea typeface="微软雅黑"/>
              </a:rPr>
              <a:t>连接一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文本框 21"/>
          <p:cNvSpPr/>
          <p:nvPr/>
        </p:nvSpPr>
        <p:spPr>
          <a:xfrm>
            <a:off x="8362800" y="33228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6c84"/>
                </a:solidFill>
                <a:latin typeface="微软雅黑"/>
                <a:ea typeface="微软雅黑"/>
              </a:rPr>
              <a:t>互联网</a:t>
            </a:r>
            <a:r>
              <a:rPr b="1" lang="en-US" sz="2400" spc="-1" strike="noStrike">
                <a:solidFill>
                  <a:srgbClr val="c06c84"/>
                </a:solidFill>
                <a:latin typeface="微软雅黑"/>
                <a:ea typeface="微软雅黑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文本框 22"/>
          <p:cNvSpPr/>
          <p:nvPr/>
        </p:nvSpPr>
        <p:spPr>
          <a:xfrm>
            <a:off x="7977600" y="4564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67280"/>
                </a:solidFill>
                <a:latin typeface="微软雅黑"/>
                <a:ea typeface="微软雅黑"/>
              </a:rPr>
              <a:t>消费者参与决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图片 23" descr=""/>
          <p:cNvPicPr/>
          <p:nvPr/>
        </p:nvPicPr>
        <p:blipFill>
          <a:blip r:embed="rId2"/>
          <a:stretch/>
        </p:blipFill>
        <p:spPr>
          <a:xfrm>
            <a:off x="5072040" y="4816440"/>
            <a:ext cx="630360" cy="414360"/>
          </a:xfrm>
          <a:prstGeom prst="rect">
            <a:avLst/>
          </a:prstGeom>
          <a:ln w="0">
            <a:noFill/>
          </a:ln>
        </p:spPr>
      </p:pic>
      <p:pic>
        <p:nvPicPr>
          <p:cNvPr id="1133" name="图片 24" descr=""/>
          <p:cNvPicPr/>
          <p:nvPr/>
        </p:nvPicPr>
        <p:blipFill>
          <a:blip r:embed="rId3"/>
          <a:stretch/>
        </p:blipFill>
        <p:spPr>
          <a:xfrm>
            <a:off x="6472080" y="2327400"/>
            <a:ext cx="570240" cy="539640"/>
          </a:xfrm>
          <a:prstGeom prst="rect">
            <a:avLst/>
          </a:prstGeom>
          <a:ln w="0">
            <a:noFill/>
          </a:ln>
        </p:spPr>
      </p:pic>
      <p:pic>
        <p:nvPicPr>
          <p:cNvPr id="1134" name="图片 25" descr=""/>
          <p:cNvPicPr/>
          <p:nvPr/>
        </p:nvPicPr>
        <p:blipFill>
          <a:blip r:embed="rId4"/>
          <a:stretch/>
        </p:blipFill>
        <p:spPr>
          <a:xfrm>
            <a:off x="5064120" y="2290680"/>
            <a:ext cx="739800" cy="741600"/>
          </a:xfrm>
          <a:prstGeom prst="rect">
            <a:avLst/>
          </a:prstGeom>
          <a:ln w="0">
            <a:noFill/>
          </a:ln>
        </p:spPr>
      </p:pic>
      <p:pic>
        <p:nvPicPr>
          <p:cNvPr id="1135" name="图片 26" descr=""/>
          <p:cNvPicPr/>
          <p:nvPr/>
        </p:nvPicPr>
        <p:blipFill>
          <a:blip r:embed="rId5"/>
          <a:stretch/>
        </p:blipFill>
        <p:spPr>
          <a:xfrm>
            <a:off x="6977160" y="3497400"/>
            <a:ext cx="763560" cy="552240"/>
          </a:xfrm>
          <a:prstGeom prst="rect">
            <a:avLst/>
          </a:prstGeom>
          <a:ln w="0">
            <a:noFill/>
          </a:ln>
        </p:spPr>
      </p:pic>
      <p:pic>
        <p:nvPicPr>
          <p:cNvPr id="1136" name="图片 27" descr=""/>
          <p:cNvPicPr/>
          <p:nvPr/>
        </p:nvPicPr>
        <p:blipFill>
          <a:blip r:embed="rId6"/>
          <a:stretch/>
        </p:blipFill>
        <p:spPr>
          <a:xfrm>
            <a:off x="4491000" y="3492360"/>
            <a:ext cx="662040" cy="648000"/>
          </a:xfrm>
          <a:prstGeom prst="rect">
            <a:avLst/>
          </a:prstGeom>
          <a:ln w="0">
            <a:noFill/>
          </a:ln>
        </p:spPr>
      </p:pic>
      <p:pic>
        <p:nvPicPr>
          <p:cNvPr id="1137" name="图片 28" descr=""/>
          <p:cNvPicPr/>
          <p:nvPr/>
        </p:nvPicPr>
        <p:blipFill>
          <a:blip r:embed="rId7"/>
          <a:stretch/>
        </p:blipFill>
        <p:spPr>
          <a:xfrm>
            <a:off x="6437160" y="4600440"/>
            <a:ext cx="584280" cy="730440"/>
          </a:xfrm>
          <a:prstGeom prst="rect">
            <a:avLst/>
          </a:prstGeom>
          <a:ln w="0">
            <a:noFill/>
          </a:ln>
        </p:spPr>
      </p:pic>
      <p:sp>
        <p:nvSpPr>
          <p:cNvPr id="1138" name="矩形 29"/>
          <p:cNvSpPr/>
          <p:nvPr/>
        </p:nvSpPr>
        <p:spPr>
          <a:xfrm>
            <a:off x="5775840" y="3357720"/>
            <a:ext cx="700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七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路标</a:t>
            </a:r>
            <a:r>
              <a:rPr b="1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微创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文本框 20"/>
          <p:cNvSpPr/>
          <p:nvPr/>
        </p:nvSpPr>
        <p:spPr>
          <a:xfrm>
            <a:off x="5791680" y="1378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1" name="图片 2" descr="探百村-logo-标志图形-组合1"/>
          <p:cNvPicPr/>
          <p:nvPr/>
        </p:nvPicPr>
        <p:blipFill>
          <a:blip r:embed="rId8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微创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文本框 10"/>
          <p:cNvSpPr/>
          <p:nvPr/>
        </p:nvSpPr>
        <p:spPr>
          <a:xfrm>
            <a:off x="654120" y="3110040"/>
            <a:ext cx="106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微创新的本质不是山寨、不是抄袭、不是小创信，而是以用户未中心的价值链创新。是以用户为中心，从用户的应用痛点出发，它的目的是打造爆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文本框 11"/>
          <p:cNvSpPr/>
          <p:nvPr/>
        </p:nvSpPr>
        <p:spPr>
          <a:xfrm>
            <a:off x="2933640" y="2179800"/>
            <a:ext cx="591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微创新是方法，爆品是最终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9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文本框 32"/>
          <p:cNvSpPr/>
          <p:nvPr/>
        </p:nvSpPr>
        <p:spPr>
          <a:xfrm>
            <a:off x="5019480" y="4978440"/>
            <a:ext cx="21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 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矩形 2"/>
          <p:cNvSpPr/>
          <p:nvPr/>
        </p:nvSpPr>
        <p:spPr>
          <a:xfrm>
            <a:off x="3596400" y="5937120"/>
            <a:ext cx="499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Rounded MT Bold"/>
                <a:ea typeface="Arial Rounded MT Bold"/>
              </a:rPr>
              <a:t>http://www.tanbaicu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图片 1" descr=""/>
          <p:cNvPicPr/>
          <p:nvPr/>
        </p:nvPicPr>
        <p:blipFill>
          <a:blip r:embed="rId2"/>
          <a:stretch/>
        </p:blipFill>
        <p:spPr>
          <a:xfrm>
            <a:off x="4495680" y="1292400"/>
            <a:ext cx="3200400" cy="3219120"/>
          </a:xfrm>
          <a:prstGeom prst="rect">
            <a:avLst/>
          </a:prstGeom>
          <a:ln w="0">
            <a:noFill/>
          </a:ln>
        </p:spPr>
      </p:pic>
      <p:pic>
        <p:nvPicPr>
          <p:cNvPr id="1153" name="图片 2" descr="探百村-logo-标志图形"/>
          <p:cNvPicPr/>
          <p:nvPr/>
        </p:nvPicPr>
        <p:blipFill>
          <a:blip r:embed="rId3"/>
          <a:stretch/>
        </p:blipFill>
        <p:spPr>
          <a:xfrm>
            <a:off x="596880" y="295200"/>
            <a:ext cx="190836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图片 1" descr=""/>
          <p:cNvPicPr/>
          <p:nvPr/>
        </p:nvPicPr>
        <p:blipFill>
          <a:blip r:embed="rId1"/>
          <a:stretch/>
        </p:blipFill>
        <p:spPr>
          <a:xfrm>
            <a:off x="884160" y="1214280"/>
            <a:ext cx="10423440" cy="442944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1" descr="探百村-logo-标志图形"/>
          <p:cNvPicPr/>
          <p:nvPr/>
        </p:nvPicPr>
        <p:blipFill>
          <a:blip r:embed="rId2"/>
          <a:stretch/>
        </p:blipFill>
        <p:spPr>
          <a:xfrm>
            <a:off x="415800" y="306360"/>
            <a:ext cx="190836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图片 1" descr=""/>
          <p:cNvPicPr/>
          <p:nvPr/>
        </p:nvPicPr>
        <p:blipFill>
          <a:blip r:embed="rId1"/>
          <a:stretch/>
        </p:blipFill>
        <p:spPr>
          <a:xfrm>
            <a:off x="307800" y="196920"/>
            <a:ext cx="5788080" cy="4429080"/>
          </a:xfrm>
          <a:prstGeom prst="rect">
            <a:avLst/>
          </a:prstGeom>
          <a:ln w="0">
            <a:noFill/>
          </a:ln>
        </p:spPr>
      </p:pic>
      <p:pic>
        <p:nvPicPr>
          <p:cNvPr id="602" name="图片 2" descr=""/>
          <p:cNvPicPr/>
          <p:nvPr/>
        </p:nvPicPr>
        <p:blipFill>
          <a:blip r:embed="rId2"/>
          <a:stretch/>
        </p:blipFill>
        <p:spPr>
          <a:xfrm>
            <a:off x="5062680" y="3703680"/>
            <a:ext cx="6948360" cy="462600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3" descr="探百村-logo-标志图形"/>
          <p:cNvPicPr/>
          <p:nvPr/>
        </p:nvPicPr>
        <p:blipFill>
          <a:blip r:embed="rId3"/>
          <a:stretch/>
        </p:blipFill>
        <p:spPr>
          <a:xfrm>
            <a:off x="9658440" y="352440"/>
            <a:ext cx="190800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图片 1" descr=""/>
          <p:cNvPicPr/>
          <p:nvPr/>
        </p:nvPicPr>
        <p:blipFill>
          <a:blip r:embed="rId1"/>
          <a:srcRect l="0" t="3568" r="0" b="0"/>
          <a:stretch/>
        </p:blipFill>
        <p:spPr>
          <a:xfrm>
            <a:off x="1130400" y="287280"/>
            <a:ext cx="9931320" cy="628344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1" descr="探百村-logo-标志图形"/>
          <p:cNvPicPr/>
          <p:nvPr/>
        </p:nvPicPr>
        <p:blipFill>
          <a:blip r:embed="rId2"/>
          <a:stretch/>
        </p:blipFill>
        <p:spPr>
          <a:xfrm>
            <a:off x="9828360" y="171360"/>
            <a:ext cx="190656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图片 1" descr=""/>
          <p:cNvPicPr/>
          <p:nvPr/>
        </p:nvPicPr>
        <p:blipFill>
          <a:blip r:embed="rId1"/>
          <a:srcRect l="2259" t="8634" r="0" b="18074"/>
          <a:stretch/>
        </p:blipFill>
        <p:spPr>
          <a:xfrm>
            <a:off x="573120" y="836640"/>
            <a:ext cx="11296440" cy="55800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1" descr="探百村-logo-标志图形"/>
          <p:cNvPicPr/>
          <p:nvPr/>
        </p:nvPicPr>
        <p:blipFill>
          <a:blip r:embed="rId2"/>
          <a:stretch/>
        </p:blipFill>
        <p:spPr>
          <a:xfrm>
            <a:off x="9794880" y="237960"/>
            <a:ext cx="190656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文本框 2"/>
          <p:cNvSpPr/>
          <p:nvPr/>
        </p:nvSpPr>
        <p:spPr>
          <a:xfrm>
            <a:off x="7500240" y="1560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包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3"/>
          <p:cNvSpPr/>
          <p:nvPr/>
        </p:nvSpPr>
        <p:spPr>
          <a:xfrm>
            <a:off x="6982920" y="391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策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文本框 4"/>
          <p:cNvSpPr/>
          <p:nvPr/>
        </p:nvSpPr>
        <p:spPr>
          <a:xfrm>
            <a:off x="6693840" y="267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包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文本框 5"/>
          <p:cNvSpPr/>
          <p:nvPr/>
        </p:nvSpPr>
        <p:spPr>
          <a:xfrm>
            <a:off x="4277880" y="5610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6"/>
          <p:cNvSpPr/>
          <p:nvPr/>
        </p:nvSpPr>
        <p:spPr>
          <a:xfrm>
            <a:off x="4423680" y="2467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营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7"/>
          <p:cNvSpPr/>
          <p:nvPr/>
        </p:nvSpPr>
        <p:spPr>
          <a:xfrm>
            <a:off x="9056160" y="2211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8"/>
          <p:cNvSpPr/>
          <p:nvPr/>
        </p:nvSpPr>
        <p:spPr>
          <a:xfrm>
            <a:off x="7709760" y="5345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文本框 9"/>
          <p:cNvSpPr/>
          <p:nvPr/>
        </p:nvSpPr>
        <p:spPr>
          <a:xfrm>
            <a:off x="2932200" y="4448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文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10"/>
          <p:cNvSpPr/>
          <p:nvPr/>
        </p:nvSpPr>
        <p:spPr>
          <a:xfrm>
            <a:off x="4639680" y="3854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品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直线箭头连接符 14"/>
          <p:cNvCxnSpPr/>
          <p:nvPr/>
        </p:nvCxnSpPr>
        <p:spPr>
          <a:xfrm>
            <a:off x="2082960" y="3409560"/>
            <a:ext cx="8146080" cy="108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18" name="直线箭头连接符 16"/>
          <p:cNvCxnSpPr/>
          <p:nvPr/>
        </p:nvCxnSpPr>
        <p:spPr>
          <a:xfrm flipV="1">
            <a:off x="6095520" y="1301040"/>
            <a:ext cx="1080" cy="4926600"/>
          </a:xfrm>
          <a:prstGeom prst="straightConnector1">
            <a:avLst/>
          </a:prstGeom>
          <a:ln w="47520">
            <a:solidFill>
              <a:srgbClr val="c00000"/>
            </a:solidFill>
            <a:round/>
            <a:tailEnd len="med" type="triangle" w="med"/>
          </a:ln>
        </p:spPr>
      </p:cxnSp>
      <p:sp>
        <p:nvSpPr>
          <p:cNvPr id="619" name="文本框 17"/>
          <p:cNvSpPr/>
          <p:nvPr/>
        </p:nvSpPr>
        <p:spPr>
          <a:xfrm>
            <a:off x="2864880" y="1468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故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圆角矩形 18"/>
          <p:cNvSpPr/>
          <p:nvPr/>
        </p:nvSpPr>
        <p:spPr>
          <a:xfrm>
            <a:off x="1836720" y="1346040"/>
            <a:ext cx="8926560" cy="493884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爆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图片 1" descr="探百村-logo-标志图形"/>
          <p:cNvPicPr/>
          <p:nvPr/>
        </p:nvPicPr>
        <p:blipFill>
          <a:blip r:embed="rId1"/>
          <a:stretch/>
        </p:blipFill>
        <p:spPr>
          <a:xfrm>
            <a:off x="415800" y="306360"/>
            <a:ext cx="190836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7T04:10:00Z</dcterms:created>
  <dc:creator>USER</dc:creator>
  <dc:description/>
  <dc:language>en-US</dc:language>
  <cp:lastModifiedBy>涪陵电大</cp:lastModifiedBy>
  <dcterms:modified xsi:type="dcterms:W3CDTF">2020-05-27T05:58:25Z</dcterms:modified>
  <cp:revision>12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584</vt:lpwstr>
  </property>
</Properties>
</file>